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139-B33B-433C-BFC1-9B647085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097-E35F-49D2-A6BF-BAD99C78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EBE-A7DD-4B0D-BAC3-9A1D77E1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0F5-C6B7-4516-B03C-A2E79158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6E6F-1E79-4717-8346-9A437FB5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6124-513D-42ED-98CE-317D5031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A697-5B20-4F76-8807-617C50F8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B07-1926-4BDE-B344-25FF819E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6F70-F823-4524-80F1-5EFB14C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809F-3F84-4957-8505-C4CFDEA1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CD41-2180-48AC-9782-AE9748F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777-DABA-4905-8193-44E774A3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B71F-DC7B-469C-A2BE-5CA36573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208D-9C76-4BC2-BD24-817FC58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0CED-A9DA-40A0-A3EC-3CF01889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A5D7-FDE1-42A2-AAB6-9941454E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806C-1086-45F3-B4E3-219374B3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BBA-AF3B-42D9-8555-E8E81054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481-0E08-430C-8C92-66144D83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2AD-98CD-4384-96EA-B0C2CB8D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623-0985-4300-942B-9D3A7D49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43B-B577-4A29-B256-12EF4F3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15A-73D0-4031-8F9D-497C6787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BFC-2BD6-4BA1-8776-BFFEA80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6F0AE9-EBE9-443C-A236-E09DEB7172A2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624CDA-9324-4E2B-B609-1170CE5EEFE0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evir.si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edstavitev seminarske nalog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MS Gothic"/>
              </a:rPr>
              <a:t>Osnove multimedijev</a:t>
            </a:r>
            <a:br>
              <a:rPr sz="32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Mentor: dr. Peter Purg</a:t>
            </a:r>
            <a:br>
              <a:rPr sz="30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Avtor: Tatjana Polanc Kolander</a:t>
            </a:r>
            <a:br>
              <a:rPr sz="3000"/>
            </a:br>
            <a:br>
              <a:rPr sz="3000"/>
            </a:b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20. november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33344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vigacija in struk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mpozit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erarhič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429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ddelki multimedijskega produkcijskega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iska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red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vdio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6400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deo- in avdioprodu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rafično obliko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57800" y="152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733920" cy="2427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imer portala E-revi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ni pred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ne skup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žna strategija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revir.si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52578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4120" y="3124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Križi in težav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kip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lgi roki izve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p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žur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dgrad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502920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Uporabna vrednos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orabne vsebine (podatkovne ba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rog referenčnih avtorj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ktronsko opismenjevanje r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lovno povezo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2163600"/>
            <a:ext cx="380988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rženje izdel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9810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dukcijski proces izdelave multimedijskega izdelka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40160" cy="2527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men multimedijske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izobraževalnih, poslovnih, razvedrilnih vsebin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preglednih vsebin multimedijs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67080" y="4419720"/>
            <a:ext cx="144792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element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5800" y="1828800"/>
            <a:ext cx="2359080" cy="167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905120" cy="186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l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6248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zv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2819160" cy="1801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4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grafična animacij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648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6483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</a:t>
            </a:r>
            <a:r>
              <a:rPr b="0" lang="en-GB" sz="4400" spc="-1" strike="noStrike">
                <a:solidFill>
                  <a:srgbClr val="ffffff"/>
                </a:solidFill>
                <a:latin typeface="Showcard Gothic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Stencil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Showcard Gothic"/>
              </a:rPr>
              <a:t>S</a:t>
            </a:r>
            <a:r>
              <a:rPr b="1" lang="en-GB" sz="4000" spc="-1" strike="noStrike">
                <a:solidFill>
                  <a:srgbClr val="ffcc00"/>
                </a:solidFill>
                <a:latin typeface="Footlight MT Light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81680" y="4495680"/>
            <a:ext cx="18288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34320" y="6019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produk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ltimedij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kti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medijski (hyper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povezavni (hyper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16600" y="2133720"/>
            <a:ext cx="31636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ed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44704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ost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4704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&amp;J</dc:creator>
  <dc:description/>
  <dc:language>en-US</dc:language>
  <cp:lastModifiedBy>T&amp;J</cp:lastModifiedBy>
  <cp:revision>0</cp:revision>
  <dc:subject/>
  <dc:title>PowerPoint Presentation</dc:title>
</cp:coreProperties>
</file>