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C33E-C67E-4E95-97E4-2D38C60A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87D-2FA8-4383-9351-16FA4B14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100-31DA-4A12-B0B3-C6627CA5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81E-AC1B-4EF3-A0FB-30B3A73A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EA4E-FB7B-4F75-A91B-FEF8E46A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DA94-BF87-4BC2-A6C9-E71F7ECB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BF73-09F9-4CBB-8AC4-9FD83158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5E36-E718-416E-9D93-C2FAC649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9327-AC39-4CC9-A818-2BF1FB21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3F93-8280-4D4B-BFEF-4FA1FDBE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9F82-2060-4E51-8C06-C477FF90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C04-FEF4-438B-9512-F495CE4A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6327-9DC9-4810-970D-F431B52B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78C1-338E-431C-98B3-0B582574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B7F9-312E-40D6-9E5D-2FD955BB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2126-4D0D-490C-B6B4-29729BDC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0A98-3277-4064-AF90-7DDEBBCB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977-EEB4-4C10-AC3B-9CD1BB9A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454-D3F4-4B9D-866D-C76C1ED3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F16-9771-4743-864D-790E8671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B15-14B2-4F0B-B5D0-2DB9E9AE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54ED-E960-4767-AFAA-860568AC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C09-CAF0-49CD-A40B-CCD8F2BD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E38-6677-489A-BB85-1543DB1D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0E073B-562C-4B1D-B6A2-AECA47963238}" type="slidenum"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DB6974-3D4F-4DE5-8099-3484AC9CF1A6}" type="slidenum"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omafm.com/" TargetMode="External"/><Relationship Id="rId2" Type="http://schemas.openxmlformats.org/officeDocument/2006/relationships/hyperlink" Target="http://www.radio-locator.com/" TargetMode="External"/><Relationship Id="rId3" Type="http://schemas.openxmlformats.org/officeDocument/2006/relationships/hyperlink" Target="http://www.radio-locator.com/" TargetMode="External"/><Relationship Id="rId4" Type="http://schemas.openxmlformats.org/officeDocument/2006/relationships/hyperlink" Target="http://windows.hacker.la/clanki/internetni_radio.html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Audio produkcija-radijska odda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900000" y="1197000"/>
            <a:ext cx="7201080" cy="54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adijska produkcij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ehnična produkcija progra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ustvarjanje program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ehnično tehnološka skup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ekipa, ki skrbi za aparature in oprem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ehnična produkcija progra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kupina za govorna snemanja, predvajanja in izdelovanja radijskih oddaj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špiker-voditelj, novinar, 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kupina za glasbena snemanja in režirane oddaj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radijski tehnik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Špiker – radijski tehni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37040" cy="61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Špiker govori v eter, vodi oddajo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Lahko dela sam OMB (One Man Ba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Ali pa mu pomaga tehnik, ki  skrbi za podlago, klice, glasbo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32360" y="1598760"/>
            <a:ext cx="3240000" cy="2163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324000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ovin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Novinar opravlja novinarsko delo na terenu, prinaša informacije, pripravlja prispevke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427640" y="301464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dd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628640"/>
            <a:ext cx="403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ogovorne (talk sh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Glasbe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nformativ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Zabav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214960" y="1598760"/>
            <a:ext cx="2670120" cy="2003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79360" y="3922560"/>
            <a:ext cx="2816280" cy="2365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22939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adijski stu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ešalna miza (digitaln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retvor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agnetof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Ojačev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krofon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redvaj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Račun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(komentatorski siste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5760" y="1940040"/>
            <a:ext cx="403704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netni ra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52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Oddaja se preko internetnega omrežj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osegljiv od vse povs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Večje radijske postaj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anjše domače radijske postaj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Računalnik, programska opre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Broadcasting, streaming, codec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P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netni ra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oma F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nam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adio –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Loc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5b2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Kako postaviti svoj internetni rad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3924360" y="1593720"/>
            <a:ext cx="4751280" cy="415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