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07FB-2FCE-4AEC-BF76-B916E729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F6C-D689-45E1-AB82-124FEE59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8C3-B0B0-4DAF-A62D-EDCA60E5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9A7-B6F1-44CC-8C5F-D64BD235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E55-0092-4504-996D-DD4759C8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E2CE-BE7D-496D-BAF1-00A2803B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D61-40EB-4455-AF2A-2994B988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B17-F938-46A4-BDF4-319B3822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974D-31B8-4727-A22C-4E96A892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E4C3-9D94-4330-890F-4DEF46CF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640-76BB-4CF3-B69E-EEC076F0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B01-3982-4D86-8BD9-52A9EF28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97CA-3DB5-4ED7-966E-A038C38D3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tupatam.com/si/" TargetMode="External"/><Relationship Id="rId4" Type="http://schemas.openxmlformats.org/officeDocument/2006/relationships/hyperlink" Target="http://www.mitjaokorn.si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Pregled procesa filmske produkc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12000" y="5805000"/>
            <a:ext cx="2727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ka Kova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00000"/>
                </a:solidFill>
                <a:latin typeface="Trebuchet MS"/>
              </a:rPr>
              <a:t>4. Po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1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ontaža videa in av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2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nhronizacija zv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3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5. Distribu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5.1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LIF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5.2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Promo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Internetna st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Glasbeni alb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Jumbo plak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3280" y="2997360"/>
            <a:ext cx="4286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lovenski film Tu pa tam sem s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enesel z interneta in pogledal d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3055 (61,4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lma nisem gled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1248 (25,1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gledal v k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395 (7,9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gledal doma in nato v k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277 (5,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43080" y="62564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49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.3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ideo in dokumentar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.4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zn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95640" y="3645000"/>
            <a:ext cx="438120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050920" y="3573360"/>
            <a:ext cx="4753080" cy="24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rebuchet MS"/>
              </a:rPr>
              <a:t>Slovenski low budget film TU PA 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rebuchet MS"/>
              </a:rPr>
              <a:t>Režiser Mitja Ok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438156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>
            <a:hlinkClick r:id="rId3"/>
          </p:cNvPr>
          <p:cNvSpPr/>
          <p:nvPr/>
        </p:nvSpPr>
        <p:spPr>
          <a:xfrm>
            <a:off x="799920" y="453240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 u="sng">
                <a:solidFill>
                  <a:srgbClr val="000000"/>
                </a:solidFill>
                <a:uFillTx/>
                <a:latin typeface="Trebuchet MS"/>
              </a:rPr>
              <a:t>tupata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815040" y="501336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 u="sng">
                <a:solidFill>
                  <a:srgbClr val="000000"/>
                </a:solidFill>
                <a:uFillTx/>
                <a:latin typeface="Trebuchet MS"/>
              </a:rPr>
              <a:t>mitjaokorn.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Zgodovina slovenskega fil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905 dr. Karol Gros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Odhod od maš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ejem v Ljutom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Na domačem vrtu (19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386064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931 Janko Ra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 kraljestvu Zlator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522936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932 Ferdo De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riglavske st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Filmska 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 Pri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2. Preprodu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 Produ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4. Poprodu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5. Distribu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1. Pripra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1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Id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2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ino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3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cenar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6680" y="652320"/>
            <a:ext cx="881064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1. Pripra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1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Id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2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ino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3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cenar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4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Zbiranje denar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5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Š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00000"/>
                </a:solidFill>
                <a:latin typeface="Trebuchet MS"/>
              </a:rPr>
              <a:t>2. Pre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1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vdi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2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črtovanje ur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3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kanje lokac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4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635280" y="3213000"/>
            <a:ext cx="5272200" cy="35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3. 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1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nem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2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Opr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3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Oseb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03640" y="2685960"/>
            <a:ext cx="5775120" cy="384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203640" y="2141640"/>
            <a:ext cx="5756040" cy="321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1:22:31Z</dcterms:created>
  <dc:creator>Uporabnik</dc:creator>
  <dc:description/>
  <dc:language>en-US</dc:language>
  <cp:lastModifiedBy>Uporabnik</cp:lastModifiedBy>
  <dcterms:modified xsi:type="dcterms:W3CDTF">2006-11-21T13:03:52Z</dcterms:modified>
  <cp:revision>6</cp:revision>
  <dc:subject/>
  <dc:title>Pregled procesa filmske produkcije</dc:title>
</cp:coreProperties>
</file>