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A0B-0050-4C72-A8AB-BC2CAE77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53B-CE98-451D-8686-EF11B868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D1D-A411-4934-A881-25B99BA1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C0D7-B660-4541-8D51-8B1B8E1F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D56-F438-4246-9550-236B4836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C3A-805F-4F7F-B27F-DB7B2109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813-E5D5-472B-92C5-66E773D1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D13-1781-4FD6-8EAE-DC43B0C6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BF8-0B56-453A-A3B3-67217593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40A-1485-4641-B944-D2686B98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0502-85D3-404B-9BF2-41E56899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1CF-8BF1-4FAA-8F08-C21BDBDE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5AA9-DB2F-4D7C-ADAB-8FA156AE3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tvslo.si/modload.php?&amp;c_mod=rtvoddaje&amp;c_menu=6" TargetMode="External"/><Relationship Id="rId3" Type="http://schemas.openxmlformats.org/officeDocument/2006/relationships/hyperlink" Target="http://www.rtvslo.si/modload.php?&amp;c_mod=rtvoddaje&amp;c_menu=6" TargetMode="External"/><Relationship Id="rId4" Type="http://schemas.openxmlformats.org/officeDocument/2006/relationships/hyperlink" Target="http://www.rtvslo.si/modload.php?&amp;c_mod=rtvoddaje&amp;c_menu=6" TargetMode="External"/><Relationship Id="rId5" Type="http://schemas.openxmlformats.org/officeDocument/2006/relationships/hyperlink" Target="http://www.rtvslo.si/modload.php?&amp;c_mod=rtvoddaje&amp;c_menu=8" TargetMode="External"/><Relationship Id="rId6" Type="http://schemas.openxmlformats.org/officeDocument/2006/relationships/hyperlink" Target="http://www.rtvslo.si/modload.php?&amp;c_mod=rtvoddaje&amp;c_menu=8" TargetMode="External"/><Relationship Id="rId7" Type="http://schemas.openxmlformats.org/officeDocument/2006/relationships/hyperlink" Target="http://www.rtvslo.si/modload.php?&amp;c_mod=rtvoddaje&amp;c_menu=8" TargetMode="External"/><Relationship Id="rId8" Type="http://schemas.openxmlformats.org/officeDocument/2006/relationships/hyperlink" Target="http://www.rtvslo.si/modload.php?&amp;c_mod=rtvoddaje&amp;c_menu=8" TargetMode="External"/><Relationship Id="rId9" Type="http://schemas.openxmlformats.org/officeDocument/2006/relationships/hyperlink" Target="http://www.rtvslo.si/modload.php?&amp;c_mod=rtvoddaje&amp;c_menu=8" TargetMode="External"/><Relationship Id="rId10" Type="http://schemas.openxmlformats.org/officeDocument/2006/relationships/hyperlink" Target="http://www.rtvslo.si/modload.php?&amp;c_mod=rtvoddaje&amp;c_menu=10" TargetMode="External"/><Relationship Id="rId11" Type="http://schemas.openxmlformats.org/officeDocument/2006/relationships/hyperlink" Target="http://www.rtvslo.si/modload.php?&amp;c_mod=rtvoddaje&amp;c_menu=10" TargetMode="External"/><Relationship Id="rId12" Type="http://schemas.openxmlformats.org/officeDocument/2006/relationships/hyperlink" Target="http://www.rtvslo.si/modload.php?&amp;c_mod=rtvoddaje&amp;c_menu=10" TargetMode="External"/><Relationship Id="rId13" Type="http://schemas.openxmlformats.org/officeDocument/2006/relationships/hyperlink" Target="http://www.rtvslo.si/modload.php?&amp;c_mod=rtvoddaje&amp;c_menu=10" TargetMode="External"/><Relationship Id="rId14" Type="http://schemas.openxmlformats.org/officeDocument/2006/relationships/hyperlink" Target="http://www.rtvslo.si/modload.php?&amp;c_mod=rtvoddaje&amp;c_menu=10" TargetMode="External"/><Relationship Id="rId15" Type="http://schemas.openxmlformats.org/officeDocument/2006/relationships/hyperlink" Target="http://www.rtvslo.si/modload.php?&amp;c_mod=rtvoddaje&amp;c_menu=11" TargetMode="External"/><Relationship Id="rId16" Type="http://schemas.openxmlformats.org/officeDocument/2006/relationships/hyperlink" Target="http://www.rtvslo.si/modload.php?&amp;c_mod=rtvoddaje&amp;c_menu=11" TargetMode="External"/><Relationship Id="rId17" Type="http://schemas.openxmlformats.org/officeDocument/2006/relationships/hyperlink" Target="http://www.rtvslo.si/modload.php?&amp;c_mod=rtvoddaje&amp;c_menu=11" TargetMode="External"/><Relationship Id="rId18" Type="http://schemas.openxmlformats.org/officeDocument/2006/relationships/hyperlink" Target="http://www.rtvslo.si/modload.php?&amp;c_mod=rtvoddaje&amp;c_menu=11" TargetMode="External"/><Relationship Id="rId19" Type="http://schemas.openxmlformats.org/officeDocument/2006/relationships/hyperlink" Target="http://www.rtvslo.si/modload.php?&amp;c_mod=rtvoddaje&amp;c_menu=11" TargetMode="External"/><Relationship Id="rId20" Type="http://schemas.openxmlformats.org/officeDocument/2006/relationships/hyperlink" Target="http://www.rtvslo.si/modload.php?&amp;c_mod=rtvoddaje&amp;c_menu=2" TargetMode="External"/><Relationship Id="rId21" Type="http://schemas.openxmlformats.org/officeDocument/2006/relationships/hyperlink" Target="http://www.rtvslo.si/modload.php?&amp;c_mod=rtvoddaje&amp;c_menu=2" TargetMode="External"/><Relationship Id="rId22" Type="http://schemas.openxmlformats.org/officeDocument/2006/relationships/hyperlink" Target="http://www.rtvslo.si/modload.php?&amp;c_mod=rtvoddaje&amp;c_menu=2" TargetMode="External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PREGLED PROCESA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TV PRODUKCIJE (PRIPRAVA TV ODDAJE) IN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PRIHODNOST TELEVIZIJE</a:t>
            </a:r>
            <a:br>
              <a:rPr sz="66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1041-6258-4E8A-96D3-F0F17863456E}" type="slidenum">
              <a:t>1</a:t>
            </a:fld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Poglavitni sodelavci </a:t>
            </a:r>
            <a:br>
              <a:rPr sz="6000"/>
            </a:b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pri pisni pripravi tv oddaj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Urednik, redaktor, novinar, komentatorj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Producent, organizat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Rezis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Tajnica rez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35A-4CAB-45BC-BE71-FA363182725D}" type="slidenum">
              <a:t>10</a:t>
            </a:fld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2. </a:t>
            </a:r>
            <a:r>
              <a:rPr b="0" lang="en-US" sz="10600" spc="-1" strike="noStrike">
                <a:solidFill>
                  <a:srgbClr val="ffff00"/>
                </a:solidFill>
                <a:latin typeface="Chiller"/>
              </a:rPr>
              <a:t>TEHNI</a:t>
            </a: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C</a:t>
            </a:r>
            <a:r>
              <a:rPr b="0" lang="en-US" sz="10600" spc="-1" strike="noStrike">
                <a:solidFill>
                  <a:srgbClr val="ffff00"/>
                </a:solidFill>
                <a:latin typeface="Chiller"/>
              </a:rPr>
              <a:t>NA PRODUKCIJA </a:t>
            </a: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TV ODDAJ</a:t>
            </a:r>
            <a:br>
              <a:rPr sz="10600"/>
            </a:b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750-F629-407E-BE03-57322C8A8FB2}" type="slidenum">
              <a:t>11</a:t>
            </a:fld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1</a:t>
            </a:r>
            <a:r>
              <a:rPr b="0" lang="sl-SI" sz="9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PRIPRAVA LOKACIJE SNEMANJ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096-651A-4A00-A7B2-CC897A30952D}" type="slidenum">
              <a:t>12</a:t>
            </a:fld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SKUPINA ZA LIKOVNO UPRIZORITEV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Scenski delavc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rekviziterj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kostumograf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Masker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šo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E09-9A6F-40A1-A734-40F25EC67E66}" type="slidenum">
              <a:t>13</a:t>
            </a:fld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kul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opr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993-7377-4ADB-B31D-A38235DD0B92}" type="slidenum">
              <a:t>14</a:t>
            </a:fld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V RAZSVETLJAV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razsvetljavo vseh studijev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razsvetljava 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rireditev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41C-059D-4A62-ACF7-B6D8F082F1AE}" type="slidenum">
              <a:t>15</a:t>
            </a:fld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REPORT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I AVTOMOBI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r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eporta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avtomobil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E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P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 ekip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3678120" cy="29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A12-D846-40D1-B0E5-650DF71A0CDE}" type="slidenum">
              <a:t>16</a:t>
            </a:fld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2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SNEMAN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289-DA85-4C8F-8B98-A2D2F7DC6698}" type="slidenum">
              <a:t>17</a:t>
            </a:fld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SKUPINA SNEMALCEV IN KAMERMANO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snem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nje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v studijih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,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terenu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enokamernih snemanjih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Snemanje iz 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repor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nih avtomobil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v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05E-98D2-41DE-9797-103B167CBF0F}" type="slidenum">
              <a:t>18</a:t>
            </a:fld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VIDE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tehni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vodje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mešalci slike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kontrole kame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grafik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5F4-2CC5-43E8-A1A8-72B5E263EC38}" type="slidenum">
              <a:t>19</a:t>
            </a:fld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PREGLED PROCESA </a:t>
            </a:r>
            <a:br>
              <a:rPr sz="6000"/>
            </a:b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TV PRODUKCIJE </a:t>
            </a:r>
            <a:br>
              <a:rPr sz="6000"/>
            </a:b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(PRIPRAVA TV ODDAJE</a:t>
            </a:r>
            <a:r>
              <a:rPr b="1" lang="sl-SI" sz="6000" spc="-1" strike="noStrike">
                <a:solidFill>
                  <a:srgbClr val="0066ff"/>
                </a:solidFill>
                <a:latin typeface="Chiller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48000" y="2997360"/>
            <a:ext cx="2452680" cy="31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425-D49F-4E89-8131-8C3D1D9DC98F}" type="slidenum">
              <a:t>2</a:t>
            </a:fld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ZVO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zvokovni asistent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zvokovni tehnik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mojstr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zvok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84C-65CB-4FF6-8738-7990695B479B}" type="slidenum">
              <a:t>20</a:t>
            </a:fld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ODELUJOCI PRI SNEMANJU: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REZIS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NASTOPAJOCI,</a:t>
            </a: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ODITEL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SNEMALCEV IN KAMERMANOV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ZA VIDEO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ZA ZV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SKUPINA ZA  RAZSVELJA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8BC-0B7C-44E1-904E-F611DBA6752F}" type="slidenum">
              <a:t>21</a:t>
            </a:fld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2.3</a:t>
            </a:r>
            <a:r>
              <a:rPr b="0" lang="sl-SI" sz="10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10600" spc="-1" strike="noStrike">
                <a:solidFill>
                  <a:srgbClr val="ff0000"/>
                </a:solidFill>
                <a:latin typeface="Chiller"/>
              </a:rPr>
              <a:t>MONTAZ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CC5-7996-4FB2-AA4A-3B2E2ABF9763}" type="slidenum">
              <a:t>22</a:t>
            </a:fld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TV MONT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elektronsk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ACE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(programirana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a)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OFF line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6D8F-B208-4295-ADA0-C71F7F2229A5}" type="slidenum">
              <a:t>23</a:t>
            </a:fld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GRAFIK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Klas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 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grafi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R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unalniš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k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-elektrons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grafi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8425-234A-48F8-B247-CE190553F459}" type="slidenum">
              <a:t>24</a:t>
            </a:fld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FOTOFILMSKI LABORATORIJ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R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azvij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 filme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priprav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filmov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oblikovn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obdelav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F00-C1CF-4401-BA7B-F3A9F753BC83}" type="slidenum">
              <a:t>25</a:t>
            </a:fld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MAGNETOSKOP IN TELEKI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snemanje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reprodukcij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redvajanj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391968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CEE-D8F1-4502-A982-BB32EDE8D17B}" type="slidenum">
              <a:t>26</a:t>
            </a:fld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4</a:t>
            </a:r>
            <a:r>
              <a:rPr b="0" lang="sl-SI" sz="9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LANSIRANJE ODDA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0C6-C2B8-4BC7-BF94-10ACAB1D0A57}" type="slidenum">
              <a:t>27</a:t>
            </a:fld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V RAZDELILN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ehn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a kontrola produ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k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c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j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T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izmenjavo evrovizijskega program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atel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D07-7297-4919-BB97-ECA04BAE0452}" type="slidenum">
              <a:t>28</a:t>
            </a:fld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PREDVAJANJE PROGRAMO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Chiller"/>
              </a:rPr>
              <a:t>emitiranje televizijskega progra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Chiller"/>
              </a:rPr>
              <a:t>emitiranje satelitskega progra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144-B97E-41D0-B7A9-27D6AE0A5D1D}" type="slidenum">
              <a:t>29</a:t>
            </a:fld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SNOVNI KRITERIJI PRODUKCIJE TV ODDA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Sporocilo gledalc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Nacini produkcij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Tehnicna opr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Organizacija projek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812-E1BC-4A07-AAE7-F0DFB9243AF8}" type="slidenum">
              <a:t>3</a:t>
            </a:fld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775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3F0-28B9-4B22-BACD-2159647F9D04}" type="slidenum">
              <a:t>30</a:t>
            </a:fld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Konec </a:t>
            </a:r>
            <a:br>
              <a:rPr sz="5400"/>
            </a:b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snov tv produkc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58B-396B-41B8-9B1E-37A933297B67}" type="slidenum">
              <a:t>31</a:t>
            </a:fld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700" spc="-1" strike="noStrike">
                <a:solidFill>
                  <a:srgbClr val="ffff00"/>
                </a:solidFill>
                <a:latin typeface="Chiller"/>
              </a:rPr>
              <a:t>3. Primerjava SLO – ITA PRODUKCIJ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2D7-8D3A-4558-BFDE-44AF16987DE2}" type="slidenum">
              <a:t>32</a:t>
            </a:fld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00"/>
                </a:solidFill>
                <a:latin typeface="Chiller"/>
              </a:rPr>
              <a:t>Primerjava SLO – ITA PRODUKCIJI</a:t>
            </a:r>
            <a:br>
              <a:rPr sz="4000"/>
            </a:b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tistega lepega popoldneva – buona domen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64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ZANR – RAZVEDRILNA ODD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FORMAT – NEDELJO POPOL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80600" y="270828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link tlp                 link buona dome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72360" y="1844640"/>
            <a:ext cx="1209600" cy="64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56000" y="18446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786-FE88-4AC0-AABB-6210FB5CDB0F}" type="slidenum">
              <a:t>33</a:t>
            </a:fld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700" spc="-1" strike="noStrike">
                <a:solidFill>
                  <a:srgbClr val="ff0000"/>
                </a:solidFill>
                <a:latin typeface="Chiller"/>
              </a:rPr>
              <a:t>Komenta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TICNE TOC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RAZL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124-9176-455B-85A4-4FB0948C1A9D}" type="slidenum">
              <a:t>34</a:t>
            </a:fld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Konec 1. 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0C92-1DFF-4DE4-B365-89AFD5EAD0C6}" type="slidenum">
              <a:t>35</a:t>
            </a:fld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66ff"/>
                </a:solidFill>
                <a:latin typeface="Chiller"/>
              </a:rPr>
              <a:t>PRIHODNOST TELEVIZIJ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00160" y="3144960"/>
            <a:ext cx="5019840" cy="345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8B1-BFB8-4BF3-B751-2EB4802305A7}" type="slidenum">
              <a:t>36</a:t>
            </a:fld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STANDARDIZACI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IPTV spletna tv (siol tv, volja tel, t2, aditeya t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-C digitalna kabelska TV (telemach – preizkus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 digitalna TV (dodatne moznosti za še pestrejšo ponudbo program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-T , zemeljska digitalna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MB, DVB-H zemeljsko televizijsko omrezje za mobilne nap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 –S, DVB-S2  Sateletska digitalna tv - Digital Video Broad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WEB TV – on line streaming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Novi standar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53480" y="0"/>
            <a:ext cx="1190520" cy="101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829-2133-44FD-83EA-6A56A9A1FF75}" type="slidenum">
              <a:t>37</a:t>
            </a:fld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PRENOS TV SIGNALA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 </a:t>
            </a:r>
            <a:br>
              <a:rPr sz="4400"/>
            </a:b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multimedijska konvergen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OPTICNO KABELSKO DIGITALNO OMREZJE – FTTH &gt;1 G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TELEFONSKO OMREZJE (OPTICNO) – ADSL2, VDSL, EDGE &gt;100 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MOBILNO DIGITALNO OMREZJE - UM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SATELITSKO DIGITALNO ODDA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ZEMELJSKO DIGITALNO ODDA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NOVE TEHNOLOGIJE PRENOSA SIG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DA3-CCC8-4FA4-919B-69CF0E0BF936}" type="slidenum">
              <a:t>38</a:t>
            </a:fld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429680" cy="453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21A-C2D2-4AC1-A07B-2AE46C4CC7BB}" type="slidenum">
              <a:t>39</a:t>
            </a:fld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ODDAJE (primer RTV SL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"/>
              </a:rPr>
              <a:t>Informativ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3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4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5"/>
              </a:rPr>
              <a:t>Izobra</a:t>
            </a:r>
            <a:r>
              <a:rPr b="0" lang="sl-SI" sz="4400" spc="-1" strike="noStrike" u="sng">
                <a:solidFill>
                  <a:srgbClr val="009999"/>
                </a:solidFill>
                <a:uFillTx/>
                <a:latin typeface="Chiller"/>
                <a:hlinkClick r:id="rId6"/>
              </a:rPr>
              <a:t>z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7"/>
              </a:rPr>
              <a:t>eval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8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9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0"/>
              </a:rPr>
              <a:t>Kulturno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1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2"/>
              </a:rPr>
              <a:t>umetniš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3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4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5"/>
              </a:rPr>
              <a:t>Otroš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6"/>
              </a:rPr>
              <a:t> -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7"/>
              </a:rPr>
              <a:t>mladins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8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9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0"/>
              </a:rPr>
              <a:t>Razvedril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1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2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Športne 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Verske oddaj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3"/>
          <a:stretch/>
        </p:blipFill>
        <p:spPr>
          <a:xfrm>
            <a:off x="5508720" y="134136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4"/>
          <a:stretch/>
        </p:blipFill>
        <p:spPr>
          <a:xfrm>
            <a:off x="4500720" y="5013360"/>
            <a:ext cx="1495440" cy="120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5"/>
          <a:stretch/>
        </p:blipFill>
        <p:spPr>
          <a:xfrm>
            <a:off x="5580000" y="3701880"/>
            <a:ext cx="2160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258-98D2-4867-BAD7-074C1BA249E5}" type="slidenum">
              <a:t>4</a:t>
            </a:fld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TV - MM VMESNI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ANALOGN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HDM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ASERSKA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CD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LASMA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MOBILNI TELEF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DLANC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RENOSNI MIN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CD PROJEKTOR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SET TOP BOX (siol tv, volja 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MHP multimedia home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NOVI VMES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571920" cy="2381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284720" y="3645000"/>
            <a:ext cx="2448000" cy="140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B65E-2933-4E14-92E1-0F829EDA6415}" type="slidenum">
              <a:t>40</a:t>
            </a:fld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Predvidena prodaja ST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11280" y="1484280"/>
          <a:ext cx="7997760" cy="464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484280"/>
                    <a:ext cx="799776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20B-7094-4B29-A75D-4CA8914ED624}" type="slidenum">
              <a:t>41</a:t>
            </a:fld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VSEOBSEGAJOCI DOMACI KOMUNIKACIJSKI MEDIJ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PAY TV (prvovrstni filmi in posebni športni program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OD (video na zahtev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ay-per-view (zaracunavanje na prik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VR  (osebni video snemalni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C8E-4C0A-4D21-B92C-259CC673EA47}" type="slidenum">
              <a:t>42</a:t>
            </a:fld>
          </a:p>
        </p:txBody>
      </p:sp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INTERAKTIVNOST </a:t>
            </a:r>
            <a:br>
              <a:rPr sz="4000"/>
            </a:b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325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i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nstant mess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on-dem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ban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mailing video predstavit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c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nove sodobne aplikaci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D113-0ED9-4CD5-A05F-44034859C26D}" type="slidenum">
              <a:t>43</a:t>
            </a:fld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online g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19280" y="1209600"/>
            <a:ext cx="5905440" cy="443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3C9-1DA4-49E4-B136-2E3B8B525F95}" type="slidenum">
              <a:t>44</a:t>
            </a:fld>
          </a:p>
        </p:txBody>
      </p: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6611760" cy="410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C468-3191-4A1D-9CC1-E1DBC8F5C138}" type="slidenum">
              <a:t>45</a:t>
            </a:fld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ele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815080" cy="407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21E-75DA-49AE-8D20-BA4A5E7CBCFD}" type="slidenum">
              <a:t>46</a:t>
            </a:fld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V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124000" y="1413000"/>
            <a:ext cx="4772160" cy="42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FB06-4411-4AB0-842E-0D2F473EA0B1}" type="slidenum">
              <a:t>47</a:t>
            </a:fld>
          </a:p>
        </p:txBody>
      </p:sp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g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5486400" cy="37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0E7-8DD2-4207-8A1A-C2E23D14C7B8}" type="slidenum">
              <a:t>48</a:t>
            </a:fld>
          </a:p>
        </p:txBody>
      </p:sp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nteractive Television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5068800" cy="380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568-C687-4A14-BC42-6D1353AE8EB2}" type="slidenum">
              <a:t>49</a:t>
            </a:fld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ffff00"/>
              </a:buClr>
              <a:buFont typeface="Chill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200" spc="-1" strike="noStrike">
                <a:solidFill>
                  <a:srgbClr val="ffff00"/>
                </a:solidFill>
                <a:latin typeface="Chiller"/>
              </a:rPr>
              <a:t>PRIPRAVE</a:t>
            </a:r>
            <a:br>
              <a:rPr sz="14200"/>
            </a:br>
            <a:r>
              <a:rPr b="0" lang="sl-SI" sz="8000" spc="-1" strike="noStrike">
                <a:solidFill>
                  <a:srgbClr val="ffff00"/>
                </a:solidFill>
                <a:latin typeface="Chiller"/>
              </a:rPr>
              <a:t>PISNA DOKUMENTACIJ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63A-672E-4502-AB93-10CA1DA6CBBD}" type="slidenum">
              <a:t>5</a:t>
            </a:fld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promo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703840" cy="38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3B5-650D-4082-AA63-DBCFC113AF71}" type="slidenum">
              <a:t>50</a:t>
            </a:fld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Entertai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55054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757-FB1D-4BFC-A257-9C1AC0D9D8B3}" type="slidenum">
              <a:t>51</a:t>
            </a:fld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RED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Profesionalna produkcija tv vse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Bogati arhivi avdio-video vseb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Dostopnost uporab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Interaktivnost – vplivanje na vseb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Vsesplošna raba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1904-B794-4F0A-9CEC-33E0BD10CEC4}" type="slidenum">
              <a:t>52</a:t>
            </a:fld>
          </a:p>
        </p:txBody>
      </p:sp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SLAB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Zloraba informac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Neprimerna 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Draga priprava in distribucija vse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Vzpostavitev novih modernih omre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C1A-38E6-41BB-8E4A-147E59D5D171}" type="slidenum">
              <a:t>53</a:t>
            </a:fld>
          </a:p>
        </p:txBody>
      </p: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Konec 2. 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D3C-25E7-4F1A-9A3B-8316E8FB9D09}" type="slidenum">
              <a:t>54</a:t>
            </a:fld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636640"/>
            <a:ext cx="80024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INOPSIS</a:t>
            </a:r>
            <a:br>
              <a:rPr sz="8800"/>
            </a:b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CENARIJ</a:t>
            </a:r>
            <a:br>
              <a:rPr sz="8800"/>
            </a:b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TELEVIZIJSKI SKRI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797-CBE6-479D-BBB1-E0D7B784171E}" type="slidenum">
              <a:t>6</a:t>
            </a:fld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79640" y="77760"/>
            <a:ext cx="5133960" cy="678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16200000">
            <a:off x="-3926520" y="3003840"/>
            <a:ext cx="974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Zamisel, ideja, SINOPS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C06-8B74-415F-9E73-9C254852F1A1}" type="slidenum">
              <a:t>7</a:t>
            </a:fld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28880" y="138240"/>
            <a:ext cx="5286240" cy="6583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16200000">
            <a:off x="-1810800" y="2393280"/>
            <a:ext cx="5689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ff"/>
                </a:solidFill>
                <a:latin typeface="Chiller"/>
              </a:rPr>
              <a:t>Scenarij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8964-FF05-4278-93C0-59293CD48FBB}" type="slidenum">
              <a:t>8</a:t>
            </a:fld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14560" y="66600"/>
            <a:ext cx="5114880" cy="6726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16200000">
            <a:off x="-3554280" y="2768040"/>
            <a:ext cx="898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Televizijski skri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CBB-991E-40F3-A0CE-54462BD15BE4}" type="slidenum">
              <a:t>9</a:t>
            </a:fld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21:55:29Z</dcterms:created>
  <dc:creator>jh</dc:creator>
  <dc:description/>
  <dc:language>en-US</dc:language>
  <cp:lastModifiedBy>jh</cp:lastModifiedBy>
  <dcterms:modified xsi:type="dcterms:W3CDTF">2006-11-09T09:03:17Z</dcterms:modified>
  <cp:revision>106</cp:revision>
  <dc:subject/>
  <dc:title>PRIHODNOST TELEVIZIJE</dc:title>
</cp:coreProperties>
</file>