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E37-1277-4B8E-AA0A-E62D12D2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A35-9892-4309-BF45-069FF0EC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284-EB77-4131-AEE2-0049F26B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154-676F-43FD-851C-ED3DD9D8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66C-B070-4F36-BD4B-4E3BF1AD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26B-E9C0-4B24-AC08-07DAD22F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57D-6A1F-4D25-A000-3F043495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76A-3B16-407F-802B-4B45338A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AE5-E595-47C9-A469-939A932E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F64-C0DF-4CFF-937B-AD5C99B6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C67-2F12-4C9A-AD01-87CB9AD6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713-9502-4420-9D74-FDEC5D40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93D1-5A76-4E25-906B-89A043743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tupatam.com/si/" TargetMode="External"/><Relationship Id="rId4" Type="http://schemas.openxmlformats.org/officeDocument/2006/relationships/hyperlink" Target="http://www.mitjaokorn.si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egled procesa filmske produkc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12000" y="5805000"/>
            <a:ext cx="2727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ka Kova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00000"/>
                </a:solidFill>
                <a:latin typeface="Trebuchet MS"/>
              </a:rPr>
              <a:t>4. Po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1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ntaža videa in av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2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nhronizacija zv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5. Distribu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1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LIF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2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Promo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Internetna st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Glasbeni alb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Jumbo plak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4286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lovenski film Tu pa tam sem s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enesel z interneta in pogledal d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3055 (61,4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lma nisem gle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1248 (25,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gledal v k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395 (7,9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gledal doma in nato v k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277 (5,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43080" y="62564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49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ideo in dokumentar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.4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z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95640" y="3645000"/>
            <a:ext cx="43812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050920" y="3573360"/>
            <a:ext cx="4753080" cy="24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rebuchet MS"/>
              </a:rPr>
              <a:t>Slovenski low budget film TU PA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rebuchet MS"/>
              </a:rPr>
              <a:t>Režiser Mitja Ok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43815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>
            <a:hlinkClick r:id="rId3"/>
          </p:cNvPr>
          <p:cNvSpPr/>
          <p:nvPr/>
        </p:nvSpPr>
        <p:spPr>
          <a:xfrm>
            <a:off x="799920" y="453240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 u="sng">
                <a:solidFill>
                  <a:srgbClr val="000000"/>
                </a:solidFill>
                <a:uFillTx/>
                <a:latin typeface="Trebuchet MS"/>
              </a:rPr>
              <a:t>tupata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815040" y="501336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 u="sng">
                <a:solidFill>
                  <a:srgbClr val="000000"/>
                </a:solidFill>
                <a:uFillTx/>
                <a:latin typeface="Trebuchet MS"/>
              </a:rPr>
              <a:t>mitjaokorn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Zgodovina slovenskega fil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905 dr. Karol Gros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dhod od ma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ejem v Ljutom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Na domačem vrtu (19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386064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931 Janko Ra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 kraljestvu Zlator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522936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932 Ferdo De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riglavske st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Filmska 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2. Pre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 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4. Po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 Distribu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1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Id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2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ino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cenar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6680" y="652320"/>
            <a:ext cx="881064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1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Id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2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ino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cenar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4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Zbiranje denar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5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Š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00000"/>
                </a:solidFill>
                <a:latin typeface="Trebuchet MS"/>
              </a:rPr>
              <a:t>2. Pre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1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vdi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2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črtovanje ur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kanje lokac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4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635280" y="3213000"/>
            <a:ext cx="5272200" cy="35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3. 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1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nem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2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seb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03640" y="2685960"/>
            <a:ext cx="5775120" cy="38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203640" y="2141640"/>
            <a:ext cx="5756040" cy="321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1:22:31Z</dcterms:created>
  <dc:creator>Uporabnik</dc:creator>
  <dc:description/>
  <dc:language>en-US</dc:language>
  <cp:lastModifiedBy>Uporabnik</cp:lastModifiedBy>
  <dcterms:modified xsi:type="dcterms:W3CDTF">2006-11-21T13:03:52Z</dcterms:modified>
  <cp:revision>6</cp:revision>
  <dc:subject/>
  <dc:title>Pregled procesa filmske produkcije</dc:title>
</cp:coreProperties>
</file>