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C7D-EDB1-4345-BDDB-A266C83E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C20-83C7-40A7-A4E9-2A4720D0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399-4B5E-476E-9DC1-7DF636AA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D09-84AF-4F4A-9EFD-D63272E6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4212-063A-47DA-BBF9-8312DCB9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8E2C-EAD3-433A-941C-11663B33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29FA-BFCA-4345-8DAA-FC59D440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4737-90D4-43B2-A927-7EF84A74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F263-09DE-4787-A5A0-7E5E14DF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FD55-000E-4DBD-A4D0-7F5207EF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B6B2-9171-48BA-88B4-C327F241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AF0-93F0-4F8D-AB0F-4F484807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C3CE-4D9F-4603-8103-7A26A6B5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6493-FA4B-451C-B000-ABE94FFA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D900-04DB-4999-980A-09A1CED9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AF83-84DD-4B42-A97E-D53FDFDC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8704-C9CF-4204-91A5-AC5BE8FB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809-0A6A-4C45-AB87-8A29E8D5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39D-0D25-4B21-864F-9A2CB4FD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52F-9498-4873-96FF-04BFB686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B6F-12F0-400E-B448-6AE8769B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CAC-A30F-4874-BF1A-783CBD07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361C-9B92-4088-A95E-D0597BDB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B4E-EB3E-4D06-B22B-7D9F0BB8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570D4F-8F42-453F-A9A5-46EE0E1F21E3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98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66DDA8-EDAC-4154-9662-A32E9B8AB790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revir.si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edstavitev seminarske nalog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MS Gothic"/>
              </a:rPr>
              <a:t>Osnove multimedijev</a:t>
            </a:r>
            <a:br>
              <a:rPr sz="32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Mentor: dr. Peter Purg</a:t>
            </a:r>
            <a:br>
              <a:rPr sz="3000"/>
            </a:br>
            <a:r>
              <a:rPr b="0" i="1" lang="en-GB" sz="3000" spc="-1" strike="noStrike">
                <a:solidFill>
                  <a:srgbClr val="ffffff"/>
                </a:solidFill>
                <a:latin typeface="Arial"/>
                <a:ea typeface="MS Gothic"/>
              </a:rPr>
              <a:t>Avtor: Tatjana Polanc Kolander</a:t>
            </a:r>
            <a:br>
              <a:rPr sz="3000"/>
            </a:br>
            <a:br>
              <a:rPr sz="3000"/>
            </a:b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MS Gothic"/>
              </a:rPr>
              <a:t>20. november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333440" cy="118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vigacija in struk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linea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mpozit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erarhič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371484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3429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Oddelki multimedijskega produkcijskega proc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iska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uredništ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vdiost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6400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deo- in avdioproduk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2819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rafično obliko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0574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2743200" cy="3657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952880" y="3429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57800" y="152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733920" cy="2427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imer portala E-revi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ktni pred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ne skup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l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žna strategija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revir.si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525780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4120" y="3124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Križi in težav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kip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lgi roki izve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gram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p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st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žurir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dgrad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5029200" cy="4738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Uporabna vrednos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orabne vsebine (podatkovne ba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rog referenčnih avtorj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ktronsko opismenjevanje r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lovno povezo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2163600"/>
            <a:ext cx="380988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rženje izdelk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981080" y="2133720"/>
            <a:ext cx="50799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dukcijski proces izdelave multimedijskega izdelka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2540160" cy="2527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Namen multimedijske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izobraževalnih, poslovnih, razvedrilnih vsebin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redovanje preglednih vsebin multimedijsk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67080" y="4419720"/>
            <a:ext cx="1447920" cy="10666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elementi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5800" y="1828800"/>
            <a:ext cx="2359080" cy="1677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1905120" cy="1866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sl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6248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zv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2819160" cy="1801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4120" y="3581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grafična animacij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6483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6483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T</a:t>
            </a:r>
            <a:r>
              <a:rPr b="0" lang="en-GB" sz="4400" spc="-1" strike="noStrike">
                <a:solidFill>
                  <a:srgbClr val="ffffff"/>
                </a:solidFill>
                <a:latin typeface="Showcard Gothic"/>
              </a:rPr>
              <a:t>e</a:t>
            </a:r>
            <a:r>
              <a:rPr b="0" lang="en-GB" sz="2400" spc="-1" strike="noStrike">
                <a:solidFill>
                  <a:srgbClr val="ffcc00"/>
                </a:solidFill>
                <a:latin typeface="Stencil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Showcard Gothic"/>
              </a:rPr>
              <a:t>S</a:t>
            </a:r>
            <a:r>
              <a:rPr b="1" lang="en-GB" sz="4000" spc="-1" strike="noStrike">
                <a:solidFill>
                  <a:srgbClr val="ffcc00"/>
                </a:solidFill>
                <a:latin typeface="Footlight MT Light"/>
              </a:rPr>
              <a:t>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781680" y="4495680"/>
            <a:ext cx="18288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934320" y="60199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Multimedijski produk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ultimedij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kti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medijski (hyperm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čpovezavni (hyper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produ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16600" y="2133720"/>
            <a:ext cx="316368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ed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229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44704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Proces produkcije -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postprodukcij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44704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&amp;J</dc:creator>
  <dc:description/>
  <dc:language>en-US</dc:language>
  <cp:lastModifiedBy>T&amp;J</cp:lastModifiedBy>
  <cp:revision>0</cp:revision>
  <dc:subject/>
  <dc:title>PowerPoint Presentation</dc:title>
</cp:coreProperties>
</file>