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ECD0-589A-4EA0-9FBF-898FB3C13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926D-C7C1-45AD-A121-80CB726A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6C93-4EE0-4E52-986E-48F94554A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1F5A-C285-4E39-9106-B524EB683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FC44-9BBF-4198-9745-5498193C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DEE2-8A91-4817-BFB7-32C20073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A644-9DAF-450D-882B-203C47AB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D8FA-5468-47C3-9CF8-ABB94A49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6DD8-C911-47C8-88C3-D150C200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60BB-7CD5-427E-BF77-7E90B8D8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0953-9711-44B6-AC3E-704AF10D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A12C-9631-42FD-AE5C-B2FB43A7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55BF-937E-43EB-9919-0F13721DF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tupatam.com/si/" TargetMode="External"/><Relationship Id="rId4" Type="http://schemas.openxmlformats.org/officeDocument/2006/relationships/hyperlink" Target="http://www.mitjaokorn.si/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rebuchet MS"/>
              </a:rPr>
              <a:t>Pregled procesa filmske produkcij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12000" y="5805000"/>
            <a:ext cx="2727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ka Kova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800" spc="-1" strike="noStrike">
                <a:solidFill>
                  <a:srgbClr val="000000"/>
                </a:solidFill>
                <a:latin typeface="Trebuchet MS"/>
              </a:rPr>
              <a:t>4. Poprodukcij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.1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ontaža videa in av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.2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nhronizacija zvo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.3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fek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5. Distribucij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5.1 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LIF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5.2 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Promo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- Internetna st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- Glasbeni alb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- Jumbo plak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-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643280" y="2997360"/>
            <a:ext cx="4286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Slovenski film Tu pa tam sem si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enesel z interneta in pogledal d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3055 (61,4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lma nisem gled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1248 (25,1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ogledal v ki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395 (7,9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ogledal doma in nato v ki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277 (5,6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43080" y="625644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49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5.3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Video in dokumentar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5.4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izn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195640" y="3645000"/>
            <a:ext cx="438120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050920" y="3573360"/>
            <a:ext cx="4753080" cy="247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4360" y="314136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rebuchet MS"/>
              </a:rPr>
              <a:t>Slovenski low budget film TU PA 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rebuchet MS"/>
              </a:rPr>
              <a:t>Režiser Mitja Ok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258920" y="765000"/>
            <a:ext cx="438156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">
            <a:hlinkClick r:id="rId3"/>
          </p:cNvPr>
          <p:cNvSpPr/>
          <p:nvPr/>
        </p:nvSpPr>
        <p:spPr>
          <a:xfrm>
            <a:off x="799920" y="4532400"/>
            <a:ext cx="14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 u="sng">
                <a:solidFill>
                  <a:srgbClr val="000000"/>
                </a:solidFill>
                <a:uFillTx/>
                <a:latin typeface="Trebuchet MS"/>
              </a:rPr>
              <a:t>tupata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4"/>
          </p:cNvPr>
          <p:cNvSpPr/>
          <p:nvPr/>
        </p:nvSpPr>
        <p:spPr>
          <a:xfrm>
            <a:off x="815040" y="5013360"/>
            <a:ext cx="142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 u="sng">
                <a:solidFill>
                  <a:srgbClr val="000000"/>
                </a:solidFill>
                <a:uFillTx/>
                <a:latin typeface="Trebuchet MS"/>
              </a:rPr>
              <a:t>mitjaokorn.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Zgodovina slovenskega fil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905 dr. Karol Gross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Odhod od maš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Sejem v Ljutom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Na domačem vrtu (19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386064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931 Janko Rav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V kraljestvu Zlatoro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5229360"/>
            <a:ext cx="8229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932 Ferdo Del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riglavske str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Filmska produkcij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 Pripr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2. Preproduk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3. Produk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4. Poproduk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5. Distribu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1. Priprav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1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Ide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2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Sinop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3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Scenar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66680" y="652320"/>
            <a:ext cx="8810640" cy="55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1. Priprav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1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Ide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2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Sinop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3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Scenar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4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Zbiranje denar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1.5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Š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800" spc="-1" strike="noStrike">
                <a:solidFill>
                  <a:srgbClr val="000000"/>
                </a:solidFill>
                <a:latin typeface="Trebuchet MS"/>
              </a:rPr>
              <a:t>2. Preprodukcij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.1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vdi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.2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ačrtovanje ur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.3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skanje lokac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.4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V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635280" y="3213000"/>
            <a:ext cx="5272200" cy="35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rebuchet MS"/>
              </a:rPr>
              <a:t>3. Produkcij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3.1 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Snem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3.2 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Opr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3.3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rebuchet MS"/>
              </a:rPr>
              <a:t>Oseb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203640" y="2685960"/>
            <a:ext cx="5775120" cy="384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203640" y="2141640"/>
            <a:ext cx="5756040" cy="321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11:22:31Z</dcterms:created>
  <dc:creator>Uporabnik</dc:creator>
  <dc:description/>
  <dc:language>en-US</dc:language>
  <cp:lastModifiedBy>Uporabnik</cp:lastModifiedBy>
  <dcterms:modified xsi:type="dcterms:W3CDTF">2006-11-21T13:03:52Z</dcterms:modified>
  <cp:revision>6</cp:revision>
  <dc:subject/>
  <dc:title>Pregled procesa filmske produkcije</dc:title>
</cp:coreProperties>
</file>