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04DE-71E6-43A6-9334-A97BA7C49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370A-A48F-4B68-A23C-BBFD9024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5F04-243E-4369-8BF7-F5BA4F79C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B870-807F-4E12-B0C6-5561E31E6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AA22-4471-4308-8272-1AFD915E6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7E91-DE57-452F-81C4-405F42C5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1CC0-C101-46B4-BA95-68ECB4F0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0CE6-C2BB-47CD-8E0D-086FD31F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07C9-2494-4969-ACFD-8EB0BF15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6F49-855C-43FC-8F3E-E212AC28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6548-A8DB-4A8A-A06E-2C319664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04A2-8C71-43A7-AD72-E4FC27FD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28F1-F4B3-4FAB-87AB-4D74707B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E67E-CBE3-470E-ADF9-723B6A63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A3E5-834D-46A7-8DDA-853EF8D7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B8EC-F16A-4DC1-84DD-44A079254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8CFB-C7F1-4E68-8872-3CA90C390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98FD-8F8C-4534-8EAA-525EE19A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6D57-DD57-4768-A5E3-CEBFCF83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1C49-F89A-45C2-9CA2-ABC42EC9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9012-B404-4200-92E4-5DBE7BD4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3404-A8F3-4A9B-B95B-CED57E91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96E3-A1BD-4CFA-9F2B-FC47207C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BFA3-1FF9-44DA-B07F-CCA0AB89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4767-D469-4277-A065-F2D75B071260}" type="slidenum"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1CF4-687B-4D87-901F-7E366BC2B5C9}" type="slidenum">
              <a:rPr b="0" lang="sl-SI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oja.posta.si/mainpage.asp?vsebina=3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like/narast%20uporabnikov%20inerneta.gif" TargetMode="External"/><Relationship Id="rId3" Type="http://schemas.openxmlformats.org/officeDocument/2006/relationships/hyperlink" Target="file:///slike/mapaparty.JPG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b7e7ff"/>
                </a:solidFill>
                <a:latin typeface="Cataneo BT"/>
              </a:rPr>
              <a:t>Pregled digitalnih multimedijskih</a:t>
            </a:r>
            <a:br>
              <a:rPr sz="4400"/>
            </a:br>
            <a:r>
              <a:rPr b="1" lang="sl-SI" sz="4400" spc="-1" strike="noStrike">
                <a:solidFill>
                  <a:srgbClr val="b7e7ff"/>
                </a:solidFill>
                <a:latin typeface="Cataneo BT"/>
              </a:rPr>
              <a:t>platform za poslovno rab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200" spc="-1" strike="noStrike">
                <a:solidFill>
                  <a:srgbClr val="ffcc00"/>
                </a:solidFill>
                <a:latin typeface="Cataneo BT"/>
              </a:rPr>
              <a:t>SKY IS THE LIMI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b7e7ff"/>
                </a:solidFill>
                <a:latin typeface="Cataneo BT"/>
              </a:rPr>
              <a:t>Prenos podatkov nekoč in dane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NEKOČ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Pošiljanje pis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Zvočni signa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Svetlobni signa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Izum telegrafa (S. Mor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DA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Elekronska poš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Telefon ; mobilni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Cataneo B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Internet kot bum revoluci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076720" y="4437000"/>
            <a:ext cx="2303640" cy="2259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755640" y="4437000"/>
            <a:ext cx="280836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b7e7ff"/>
                </a:solidFill>
                <a:latin typeface="Cataneo BT"/>
              </a:rPr>
              <a:t>Pošta kot prenos podatkov za poslovno rabo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Pošta nekoč in dane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Namen Pošte in njihovih urado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Prihodnost Poš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moja.posta.s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181480" y="1676520"/>
            <a:ext cx="3125880" cy="2135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148360" y="4127400"/>
            <a:ext cx="3240000" cy="225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98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98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98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98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b7e7ff"/>
                </a:solidFill>
                <a:latin typeface="Cataneo BT"/>
              </a:rPr>
              <a:t>Telefon kot potreba za poslovnež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58920" y="1676160"/>
            <a:ext cx="259236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  </a:t>
            </a: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Skozi zgodovino je telefonski prenosljivi aparat postal potreba in ne več ugodje in razkošj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    </a:t>
            </a:r>
            <a:r>
              <a:rPr b="0" lang="sl-SI" sz="2800" spc="-1" strike="noStrike" u="sng">
                <a:solidFill>
                  <a:srgbClr val="ffcc00"/>
                </a:solidFill>
                <a:uFillTx/>
                <a:latin typeface="Cataneo BT"/>
                <a:hlinkClick r:id="rId2" action="ppaction://hlinksldjump"/>
              </a:rPr>
              <a:t>ZAKAJ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3873600" cy="2801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433600" cy="2808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924360" y="189000"/>
            <a:ext cx="3241440" cy="2808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08000" y="3500280"/>
            <a:ext cx="2765520" cy="2881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2843280" y="3500280"/>
            <a:ext cx="2881080" cy="2847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5724360" y="3500280"/>
            <a:ext cx="3311640" cy="28036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b7e7ff"/>
                </a:solidFill>
                <a:latin typeface="Cataneo BT"/>
              </a:rPr>
              <a:t>Internet in njegov razvoj </a:t>
            </a:r>
            <a:br>
              <a:rPr sz="4000"/>
            </a:br>
            <a:r>
              <a:rPr b="0" lang="sl-SI" sz="3600" spc="-1" strike="noStrike">
                <a:solidFill>
                  <a:srgbClr val="b7e7ff"/>
                </a:solidFill>
                <a:latin typeface="Cataneo BT"/>
              </a:rPr>
              <a:t>(</a:t>
            </a:r>
            <a:r>
              <a:rPr b="0" lang="sl-SI" sz="3600" spc="-1" strike="noStrike">
                <a:solidFill>
                  <a:srgbClr val="ee941c"/>
                </a:solidFill>
                <a:latin typeface="Cataneo BT"/>
              </a:rPr>
              <a:t>1983</a:t>
            </a:r>
            <a:r>
              <a:rPr b="0" lang="sl-SI" sz="3600" spc="-1" strike="noStrike">
                <a:solidFill>
                  <a:srgbClr val="b7e7ff"/>
                </a:solidFill>
                <a:latin typeface="Cataneo BT"/>
              </a:rPr>
              <a:t> ~ </a:t>
            </a:r>
            <a:r>
              <a:rPr b="0" lang="sl-SI" sz="3600" spc="-1" strike="noStrike">
                <a:solidFill>
                  <a:srgbClr val="ee941c"/>
                </a:solidFill>
                <a:latin typeface="Cataneo BT"/>
              </a:rPr>
              <a:t>2000</a:t>
            </a:r>
            <a:r>
              <a:rPr b="0" lang="sl-SI" sz="3600" spc="-1" strike="noStrike">
                <a:solidFill>
                  <a:srgbClr val="b7e7ff"/>
                </a:solidFill>
                <a:latin typeface="Cataneo BT"/>
              </a:rPr>
              <a:t>)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73432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</a:t>
            </a: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~Leta 1983 se internet razpase med ljudi in ustanovitelji beležij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  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200 gostiteljev interneta</a:t>
            </a: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</a:t>
            </a: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~Leta 1996, trinajst let kasneje ustanovitelji beleži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 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10 – 12 milijonov uporabnikov in 100.000,00 web stra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</a:t>
            </a: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~Leta 2000 pa število uporabnikov v štirih letih poskoči 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cc00"/>
                </a:solidFill>
                <a:latin typeface="Cataneo BT"/>
              </a:rPr>
              <a:t>  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domnevnih 150 milijonov uporabnikov in 20 milonov web stra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900" spc="-1" strike="noStrike" u="sng">
                <a:solidFill>
                  <a:srgbClr val="ffcc00"/>
                </a:solidFill>
                <a:uFillTx/>
                <a:latin typeface="Cataneo BT"/>
                <a:hlinkClick r:id="rId2"/>
              </a:rPr>
              <a:t>Tabela</a:t>
            </a:r>
            <a:r>
              <a:rPr b="0" lang="sl-SI" sz="900" spc="-1" strike="noStrike">
                <a:solidFill>
                  <a:srgbClr val="fd2f0d"/>
                </a:solidFill>
                <a:latin typeface="Cataneo BT"/>
              </a:rPr>
              <a:t>     </a:t>
            </a:r>
            <a:r>
              <a:rPr b="0" lang="sl-SI" sz="900" spc="-1" strike="noStrike" u="sng">
                <a:solidFill>
                  <a:srgbClr val="ffcc00"/>
                </a:solidFill>
                <a:uFillTx/>
                <a:latin typeface="Cataneo BT"/>
                <a:hlinkClick r:id="rId3"/>
              </a:rPr>
              <a:t>Tabela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b7e7ff"/>
                </a:solidFill>
                <a:latin typeface="Cataneo BT"/>
              </a:rPr>
              <a:t>Internet, Intranet in Extrane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483920"/>
            <a:ext cx="8591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Internet </a:t>
            </a: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; </a:t>
            </a:r>
            <a:r>
              <a:rPr b="0" lang="sl-SI" sz="2000" spc="-1" strike="noStrike">
                <a:solidFill>
                  <a:srgbClr val="ee941c"/>
                </a:solidFill>
                <a:latin typeface="Cataneo BT"/>
              </a:rPr>
              <a:t>je rzličica spleta, kot jo pozna vsaka fizična oseba, ki je kdaj koli imela dostop do spleta 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www ( w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orld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w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ide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w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eb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Intranet </a:t>
            </a: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; </a:t>
            </a:r>
            <a:r>
              <a:rPr b="0" lang="sl-SI" sz="2000" spc="-1" strike="noStrike">
                <a:solidFill>
                  <a:srgbClr val="ee941c"/>
                </a:solidFill>
                <a:latin typeface="Cataneo BT"/>
              </a:rPr>
              <a:t>je različica spleta, ki je zelo korporativna za večja podjetja z potrebo po med sebojno povezavo ( interno ) 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wan (w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ide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 a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rea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 n</a:t>
            </a:r>
            <a:r>
              <a:rPr b="0" lang="sl-SI" sz="2000" spc="-1" strike="noStrike">
                <a:solidFill>
                  <a:srgbClr val="ffffff"/>
                </a:solidFill>
                <a:latin typeface="Cataneo BT"/>
              </a:rPr>
              <a:t>etwork</a:t>
            </a:r>
            <a:r>
              <a:rPr b="0" lang="sl-SI" sz="2000" spc="-1" strike="noStrike">
                <a:solidFill>
                  <a:srgbClr val="fd2f0d"/>
                </a:solidFill>
                <a:latin typeface="Cataneo BT"/>
              </a:rPr>
              <a:t>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Cataneo BT"/>
              </a:rPr>
              <a:t>Extranet </a:t>
            </a:r>
            <a:r>
              <a:rPr b="0" lang="sl-SI" sz="2800" spc="-1" strike="noStrike">
                <a:solidFill>
                  <a:srgbClr val="ee941c"/>
                </a:solidFill>
                <a:latin typeface="Cataneo BT"/>
              </a:rPr>
              <a:t>; </a:t>
            </a:r>
            <a:r>
              <a:rPr b="0" lang="sl-SI" sz="2000" spc="-1" strike="noStrike">
                <a:solidFill>
                  <a:srgbClr val="ee941c"/>
                </a:solidFill>
                <a:latin typeface="Cataneo BT"/>
              </a:rPr>
              <a:t>extranet aplikacije izvajajo, prevzamejo od podjetja intranet in ga razširijo, v varne, privatne dele in ostala partnerska podjetja.</a:t>
            </a: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11280" y="5229360"/>
            <a:ext cx="7921440" cy="1352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b7e7ff"/>
                </a:solidFill>
                <a:latin typeface="Cataneo BT"/>
              </a:rPr>
              <a:t>Prenos podatkov, kot pomembni dejavnik</a:t>
            </a:r>
            <a:br>
              <a:rPr sz="4000"/>
            </a:br>
            <a:r>
              <a:rPr b="0" lang="sl-SI" sz="4000" spc="-1" strike="noStrike">
                <a:solidFill>
                  <a:srgbClr val="b7e7ff"/>
                </a:solidFill>
                <a:latin typeface="Cataneo BT"/>
              </a:rPr>
              <a:t>za razvoj civilizacije </a:t>
            </a:r>
            <a:br>
              <a:rPr sz="4000"/>
            </a:br>
            <a:r>
              <a:rPr b="0" lang="sl-SI" sz="2400" spc="-1" strike="noStrike">
                <a:solidFill>
                  <a:srgbClr val="ffcc00"/>
                </a:solidFill>
                <a:latin typeface="Cataneo BT"/>
              </a:rPr>
              <a:t>Moramo se vprašati “kaj bi danes brez podatkov?”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042920" y="1916280"/>
            <a:ext cx="7056360" cy="4703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4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e941c"/>
                </a:solidFill>
                <a:latin typeface="Cataneo BT"/>
              </a:rPr>
              <a:t>Zato prosim bodite prijazni do svojega</a:t>
            </a:r>
            <a:br>
              <a:rPr sz="4000"/>
            </a:br>
            <a:r>
              <a:rPr b="0" lang="sl-SI" sz="4000" spc="-1" strike="noStrike">
                <a:solidFill>
                  <a:srgbClr val="ee941c"/>
                </a:solidFill>
                <a:latin typeface="Cataneo BT"/>
              </a:rPr>
              <a:t>računalnika!</a:t>
            </a:r>
            <a:br>
              <a:rPr sz="4000"/>
            </a:br>
            <a:r>
              <a:rPr b="0" lang="sl-SI" sz="4000" spc="-1" strike="noStrike">
                <a:solidFill>
                  <a:srgbClr val="ee941c"/>
                </a:solidFill>
                <a:latin typeface="Cataneo BT"/>
              </a:rPr>
              <a:t>hval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26920" y="1758960"/>
            <a:ext cx="7201080" cy="491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7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5:44:49Z</dcterms:created>
  <dc:creator>uros</dc:creator>
  <dc:description/>
  <dc:language>en-US</dc:language>
  <cp:lastModifiedBy>uros</cp:lastModifiedBy>
  <dcterms:modified xsi:type="dcterms:W3CDTF">2006-11-20T08:59:31Z</dcterms:modified>
  <cp:revision>26</cp:revision>
  <dc:subject/>
  <dc:title>Pregled digitalnih multimedijskih platform za poslovno rabo</dc:title>
</cp:coreProperties>
</file>