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26B-6430-4B5C-B076-77447DEC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AF7-5E49-4F67-BCB2-DB512D1C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D62-8ECB-49AC-A49B-CF69B80B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EAD-7C9D-4CF3-B3E1-B60EF7DE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7CB6-865E-4F29-A849-8533D109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E2D-DE78-431C-BDDE-03ED9407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7C21-6063-41C8-B006-9FBF98E3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6EA8-2D8B-4C1F-B71A-61C3A37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1497-FB66-4BE8-B090-21A6C1A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8E92-1AE9-4F9E-BBC4-609000A4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9CC8-DDBC-4A6D-92DE-DB7938D6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AF4-08FB-4171-9EF7-328F30E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767-8F51-4A6B-9435-BF8D572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387E-1942-48D7-948D-FF2AE91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EDCD-65AD-4B8B-9DBA-4FC53D3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1DC6-A594-49CE-86FA-8537758E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F5AC-3C84-4F6F-9B06-F2CC124A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2AE-2AFA-4905-BCAB-92568D4E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1BD-1E81-4E0F-A908-FDC29841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E26-0D03-476C-A93C-C243C095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E76-8C4D-4AFD-BBBC-A8244C37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638-9C7E-4C1A-9E4A-B964FBB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EA7-2B06-4C2D-A3BE-B6B1AF18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DF9-75CE-4C8A-81FB-415260A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CA2639-F9B1-40FD-A1A8-B12C1F214CC9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30FEF3-211E-4733-BEEC-90F08FECEFED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99ff66"/>
                </a:solidFill>
                <a:latin typeface="Arial Black"/>
              </a:rPr>
              <a:t>Problem identitete in zasebnosti v medijih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tor: Bosnić Ed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Črvi (ang. Worm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širijo se preko omrežja in avtomatiziranih mehanizm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prva so neopazni kasneje pa se lahko kažejo v počasnosti sist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dostop in nadzor nad našim računalnikom s strani tretjih ose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mogočajo brisanje datotek, spreminjanje nastavitev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38512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Prevare z e-pošto </a:t>
            </a:r>
            <a:br>
              <a:rPr sz="4000"/>
            </a:br>
            <a:r>
              <a:rPr b="1" lang="en-GB" sz="4000" spc="-1" strike="noStrike">
                <a:solidFill>
                  <a:srgbClr val="ffffb7"/>
                </a:solidFill>
                <a:latin typeface="Arial Black"/>
              </a:rPr>
              <a:t>(ang. E-mail spoofing)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elektronski nabiralnik dobimo sporočilo od “sistemskega administratorja”, ki od nas zahteva menjavo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i elektronsko sporočilo, ki od nas zahteva da pošljemo kopije datotek z gesli in druge pomembne inform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Vohunjenje paketov </a:t>
            </a:r>
            <a:br>
              <a:rPr sz="4400"/>
            </a:b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(ang. Packet sniff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hnika, ki pregleduje in izloča informacije (gesla, uporabniška imena,..) iz informacijskih paket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 pridobljenimi podatki lahko vsiljivec sproži obsežen napad na sist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kabelskega dostopa so bolj ranljivi na takšne prog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ibarjenje (ang. phishing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assword (geslo) + fishing (ribarjenj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lektronsko pismo ali spletna stran od nas zahteva, da vanjo vnesemo svoje finančne podatke ali ges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letna stran ali elektronsko pismo sta na pogled identični originalni spletni strani ali p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15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harm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posredni napadi na DNS strežnike ali na datoteko o gostiteljih (ang. Hos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porabniki so nevede preusmerjeni na zlonamerne spletne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 strani so popolna kopija originaln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a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oročilo, ki je poslano večjemu številu naslovnikov, z namenom vsiljevanja vsebine, ki se je naslovniki sami ne bi odločili prejema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večini primerov gre za oglaševanje plačljivih storitev in izdelkov dvomljive kval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385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Spyw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grami namenjen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prikritemu) zbiranju osebnih podatk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kazovanju oglasov (ang. ad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eusmerjanju spletnih brskalnikov (ang. Browser hijac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z. različnim nezakonitim dejavnostim (ang. Malwa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Piškotki (ang. Cookie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formacije, ki se ob obisku posamezne spletne strani shranijo na naš računalnik in so po potrebi ponovno uporabljen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 osnovi so zelo uporabni, nevarnost nam predstavljajo šele kadar so zlorabljeni za neprimerno upora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Nekaj nasvetov ob deskanju po spletu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koli ne odgovarjajmo na elektronska pisma, ki od nas zahtevajo osebne in finančne podat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o se prijavljamo na spletne strani, ki imajo karkoli opraviti z denarjem, njihov spletni (url) naslov obvezno vtipkamo direktno v naslovno vr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ebnih in finančnih podatkov nikoli ne pošiljamo s pomočjo elektronske poš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 računalniku imamo vedno nameščene najnovejše popravke operacijskega sistema (npr. windows update) in posodobljen antivirusni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6520" y="1905120"/>
            <a:ext cx="80074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š brskalnik lahko nastavimo tako, da pred shranjevanjem piškotka na naš računalnik vpraša za dovoljenje in tako dobimo dober pregled nad tem, katere strani zbirajo in shranjujejo informacije o 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dimo pozorni tudi pri spletnem nakupovanju (nakupujmo v priznanih spletnih trgovinah, osebni podatki naj ostanejo zasebni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sa gesla ki jih uporabljamo, naj bodo močna (ni dobro uporabljati rojstnih datumov, telefonskih številk, ime psa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36520" y="1905120"/>
            <a:ext cx="800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tp://www.vodium.com/MP/MPF/1.1.8/mpf.asp?dataset=pn100311_fh_ftc&amp;eventid=83S99Z4O&amp;majver=7&amp;minver=0&amp;revver=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Kraja identitete </a:t>
            </a:r>
            <a:br>
              <a:rPr sz="4800"/>
            </a:b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(ang. Identity theft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b7"/>
                </a:solidFill>
                <a:latin typeface="Arial Black"/>
              </a:rPr>
              <a:t>Do naših osebnih podatkov lahko tatovi pridejo na več načinov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mpster d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anging the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ld- fashioned stea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6520" y="1905120"/>
            <a:ext cx="800748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Včasih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nformacije o državljanih napisane na papirju in shranjene v arhivi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anes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lektronska obdelava podatkov, večina osebnih podatkov shranjena v računalniškem siste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58880" y="426600"/>
            <a:ext cx="83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b7"/>
                </a:solidFill>
                <a:latin typeface="Arial Black"/>
              </a:rPr>
              <a:t>Osebni podatki o državljanih so lahko koristni predvsem z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1905120"/>
            <a:ext cx="80074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ržavo (npr. zasledovanje za potrebe kazenskih pregonov ali finančnih preverjanj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jne služ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znanstvene n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atove identit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088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b7"/>
                </a:solidFill>
                <a:latin typeface="Arial Black"/>
              </a:rPr>
              <a:t>Namerne zlorabe našega računalnik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Trojanski konj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a od osnovnih različic škodljive programske op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dstavlja se kot uporaben ali zabaven programč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ničuje datoteke in ustvari t.i. back do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etjim osebam omogoča popoln nadzor nad našim računalnikom in dadotekami na nj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Arial Black"/>
              </a:rPr>
              <a:t>Računalniški virus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samodej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kužijo “zdrave” programe ali datote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širijo se zelo hit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dina</dc:creator>
  <dc:description/>
  <dc:language>en-US</dc:language>
  <cp:lastModifiedBy>edina</cp:lastModifiedBy>
  <cp:revision>0</cp:revision>
  <dc:subject/>
  <dc:title>Problem identitete in zasebnosti v medijih</dc:title>
</cp:coreProperties>
</file>