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E5D-B197-4037-91CD-0739F4F9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7F55-0E73-471C-91BF-6CAADC2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F19-6C30-4855-9833-BCFE0AE2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CB77-2374-4E45-B368-F66CD8C0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C580-1224-4016-9445-0D8BBADE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31BB-0E7D-43A3-8D43-669C0F63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D2C9-EC89-4929-808F-BAA7BE6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270-F1B9-423B-A5FA-210611A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9E4C-A7C4-42AA-A259-F646BC34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FF6F-5A1D-4697-AB88-F2831A7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C1E2-056C-4AB2-9B49-EB807BAF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B3C-8BDE-420E-B1D9-16756BE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4A6B-B120-46BA-B9CF-D2AEF43A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C095-E24B-4646-A8AA-C8BE50F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07F-15D7-4CCF-AAB6-44053DB7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2F75-8B56-49CD-9C17-7DD56FFF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0D3F-6BC4-4446-A88C-64A33569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A95-6CC5-4189-8072-09ECE1E2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6D2-DD8E-46CE-AA0F-2E5EC292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EF3-A441-4661-BA6C-044416FC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3B3-A72A-4837-A07B-66EDA15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A3C-3A0F-4E6F-B7A4-F3C4219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7F2-BF2A-4BF8-AC23-5E4ABB7A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D42-D099-42C1-B7FC-00FC1CC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E06B7B-0F2D-45D9-B261-3673EA13DB44}" type="slidenum">
              <a:rPr b="0" lang="en-GB" sz="1000" spc="-1" strike="noStrike">
                <a:solidFill>
                  <a:srgbClr val="eaeaea"/>
                </a:solidFill>
                <a:latin typeface="Arial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A21064-837F-4A2B-B9FE-B06D2F1382EA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mafm.com/" TargetMode="External"/><Relationship Id="rId2" Type="http://schemas.openxmlformats.org/officeDocument/2006/relationships/hyperlink" Target="http://www.radio-locator.com/" TargetMode="External"/><Relationship Id="rId3" Type="http://schemas.openxmlformats.org/officeDocument/2006/relationships/hyperlink" Target="http://www.radio-locator.com/" TargetMode="External"/><Relationship Id="rId4" Type="http://schemas.openxmlformats.org/officeDocument/2006/relationships/hyperlink" Target="http://windows.hacker.la/clanki/internetni_radio.html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udio produkcija-radijska odda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00000" y="1197000"/>
            <a:ext cx="720108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a produkci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a produkcija progr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ustvarjanje program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Tehnično tehnološka skup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ekipa, ki skrbi za aparature in oprem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ehnična produkcija progra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ovorna snemanja, predvajanja in izdelovanja radijskih oddaj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špiker-voditelj, novinar, 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kupina za glasbena snemanja in režirane oddaj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(radijski tehniki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Špiker – radijski tehni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37040" cy="61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Špiker govori v eter, vodi oddaj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hko dela sam OMB (One Man Band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Ali pa mu pomaga tehnik, ki  skrbi za podlago, klice, glasbo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32360" y="1598760"/>
            <a:ext cx="3240000" cy="2163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Novin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Novinar opravlja novinarsko delo na terenu, prinaša informacije, pripravlja prispevke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427640" y="30146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dda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628640"/>
            <a:ext cx="403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ogovorne (talk show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lasbe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nformati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Zabav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14960" y="15987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79360" y="3922560"/>
            <a:ext cx="2816280" cy="2365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22939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adijski stu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šalna miza (digitaln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tvor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agnetof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Ojačev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krofon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Predvaj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Računalnik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(komentatorski siste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5760" y="1940040"/>
            <a:ext cx="40370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52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Oddaja se preko internetnega omrežj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osegljiv od vse povs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Večj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anjše domače radijske postaj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Računalnik, programska opre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Broadcasting, streaming, codec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MP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nternetni rad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oma F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nam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Radio –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oc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5b2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Kako postaviti svoj internetni rad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3924360" y="1593720"/>
            <a:ext cx="4751280" cy="415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