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785-0AD2-4D30-BA12-2F4DC76A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973-F5AF-4382-AD7B-96F293A2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6F8-C476-447C-B139-AE561E3F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B89-5D01-475E-A7A7-E5D921C7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BA3-30DB-4FF5-922A-CADE61D7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3AC-6D16-4757-9EC3-8F16F7B1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632-A4BC-44A2-9D75-F8BB48BA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B67B-9E8C-4159-82D0-DF859D88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A1E-C77F-4694-B89C-059347AF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E15-1C61-467D-8B0A-546A7155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A65-6DAC-46AA-908F-930FF268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673-2F6D-4FDA-AC6D-6256F0C3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D301-B50F-49B3-B811-DC04BA996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tvslo.si/modload.php?&amp;c_mod=rtvoddaje&amp;c_menu=6" TargetMode="External"/><Relationship Id="rId3" Type="http://schemas.openxmlformats.org/officeDocument/2006/relationships/hyperlink" Target="http://www.rtvslo.si/modload.php?&amp;c_mod=rtvoddaje&amp;c_menu=6" TargetMode="External"/><Relationship Id="rId4" Type="http://schemas.openxmlformats.org/officeDocument/2006/relationships/hyperlink" Target="http://www.rtvslo.si/modload.php?&amp;c_mod=rtvoddaje&amp;c_menu=6" TargetMode="External"/><Relationship Id="rId5" Type="http://schemas.openxmlformats.org/officeDocument/2006/relationships/hyperlink" Target="http://www.rtvslo.si/modload.php?&amp;c_mod=rtvoddaje&amp;c_menu=8" TargetMode="External"/><Relationship Id="rId6" Type="http://schemas.openxmlformats.org/officeDocument/2006/relationships/hyperlink" Target="http://www.rtvslo.si/modload.php?&amp;c_mod=rtvoddaje&amp;c_menu=8" TargetMode="External"/><Relationship Id="rId7" Type="http://schemas.openxmlformats.org/officeDocument/2006/relationships/hyperlink" Target="http://www.rtvslo.si/modload.php?&amp;c_mod=rtvoddaje&amp;c_menu=8" TargetMode="External"/><Relationship Id="rId8" Type="http://schemas.openxmlformats.org/officeDocument/2006/relationships/hyperlink" Target="http://www.rtvslo.si/modload.php?&amp;c_mod=rtvoddaje&amp;c_menu=8" TargetMode="External"/><Relationship Id="rId9" Type="http://schemas.openxmlformats.org/officeDocument/2006/relationships/hyperlink" Target="http://www.rtvslo.si/modload.php?&amp;c_mod=rtvoddaje&amp;c_menu=8" TargetMode="External"/><Relationship Id="rId10" Type="http://schemas.openxmlformats.org/officeDocument/2006/relationships/hyperlink" Target="http://www.rtvslo.si/modload.php?&amp;c_mod=rtvoddaje&amp;c_menu=10" TargetMode="External"/><Relationship Id="rId11" Type="http://schemas.openxmlformats.org/officeDocument/2006/relationships/hyperlink" Target="http://www.rtvslo.si/modload.php?&amp;c_mod=rtvoddaje&amp;c_menu=10" TargetMode="External"/><Relationship Id="rId12" Type="http://schemas.openxmlformats.org/officeDocument/2006/relationships/hyperlink" Target="http://www.rtvslo.si/modload.php?&amp;c_mod=rtvoddaje&amp;c_menu=10" TargetMode="External"/><Relationship Id="rId13" Type="http://schemas.openxmlformats.org/officeDocument/2006/relationships/hyperlink" Target="http://www.rtvslo.si/modload.php?&amp;c_mod=rtvoddaje&amp;c_menu=10" TargetMode="External"/><Relationship Id="rId14" Type="http://schemas.openxmlformats.org/officeDocument/2006/relationships/hyperlink" Target="http://www.rtvslo.si/modload.php?&amp;c_mod=rtvoddaje&amp;c_menu=10" TargetMode="External"/><Relationship Id="rId15" Type="http://schemas.openxmlformats.org/officeDocument/2006/relationships/hyperlink" Target="http://www.rtvslo.si/modload.php?&amp;c_mod=rtvoddaje&amp;c_menu=11" TargetMode="External"/><Relationship Id="rId16" Type="http://schemas.openxmlformats.org/officeDocument/2006/relationships/hyperlink" Target="http://www.rtvslo.si/modload.php?&amp;c_mod=rtvoddaje&amp;c_menu=11" TargetMode="External"/><Relationship Id="rId17" Type="http://schemas.openxmlformats.org/officeDocument/2006/relationships/hyperlink" Target="http://www.rtvslo.si/modload.php?&amp;c_mod=rtvoddaje&amp;c_menu=11" TargetMode="External"/><Relationship Id="rId18" Type="http://schemas.openxmlformats.org/officeDocument/2006/relationships/hyperlink" Target="http://www.rtvslo.si/modload.php?&amp;c_mod=rtvoddaje&amp;c_menu=11" TargetMode="External"/><Relationship Id="rId19" Type="http://schemas.openxmlformats.org/officeDocument/2006/relationships/hyperlink" Target="http://www.rtvslo.si/modload.php?&amp;c_mod=rtvoddaje&amp;c_menu=11" TargetMode="External"/><Relationship Id="rId20" Type="http://schemas.openxmlformats.org/officeDocument/2006/relationships/hyperlink" Target="http://www.rtvslo.si/modload.php?&amp;c_mod=rtvoddaje&amp;c_menu=2" TargetMode="External"/><Relationship Id="rId21" Type="http://schemas.openxmlformats.org/officeDocument/2006/relationships/hyperlink" Target="http://www.rtvslo.si/modload.php?&amp;c_mod=rtvoddaje&amp;c_menu=2" TargetMode="External"/><Relationship Id="rId22" Type="http://schemas.openxmlformats.org/officeDocument/2006/relationships/hyperlink" Target="http://www.rtvslo.si/modload.php?&amp;c_mod=rtvoddaje&amp;c_menu=2" TargetMode="External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EGLED PROCESA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TV PRODUKCIJE (PRIPRAVA TV ODDAJE) IN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Chiller"/>
              </a:rPr>
              <a:t>PRIHODNOST TELEVIZIJE</a:t>
            </a:r>
            <a:br>
              <a:rPr sz="66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7380-4ED3-4D76-A1A4-C5028E2674D1}" type="slidenum">
              <a:t>1</a:t>
            </a:fld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oglavitni sodelavci </a:t>
            </a:r>
            <a:br>
              <a:rPr sz="6000"/>
            </a:b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pri pisni pripravi tv oddaj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Urednik, redaktor, novinar, komentatorj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oducent, organizat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ajnica rez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B1C-1CE5-4819-9FED-E4F9C522792E}" type="slidenum">
              <a:t>10</a:t>
            </a:fld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 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TEHNI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C</a:t>
            </a:r>
            <a:r>
              <a:rPr b="0" lang="en-US" sz="10600" spc="-1" strike="noStrike">
                <a:solidFill>
                  <a:srgbClr val="ffff00"/>
                </a:solidFill>
                <a:latin typeface="Chiller"/>
              </a:rPr>
              <a:t>NA PRODUKCIJA </a:t>
            </a: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TV ODDAJ</a:t>
            </a:r>
            <a:br>
              <a:rPr sz="10600"/>
            </a:b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97D-53E7-4F2E-A965-D23827480832}" type="slidenum">
              <a:t>11</a:t>
            </a:fld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1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PRIPRAVA LOKACIJE SNEMANJ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3D1-0023-4512-8056-267D10EC9FF8}" type="slidenum">
              <a:t>12</a:t>
            </a:fld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SKUPINA ZA LIKOVNO UPRIZORITEV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Scenski delavc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rekviziter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kostumograf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Masker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šo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CA6-6C05-4055-85BF-ACD83325A510}" type="slidenum">
              <a:t>13</a:t>
            </a:fld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C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kuli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360-5696-4334-9655-F292EAB887F4}" type="slidenum">
              <a:t>14</a:t>
            </a:fld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SVETLJAV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azsvetljavo vseh studijev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azsvetljava 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ireditev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9DC-5152-4C72-9371-984F23F10D93}" type="slidenum">
              <a:t>15</a:t>
            </a:fld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I AVTOMOBIL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porta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avtomobil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E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 ekip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3678120" cy="29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390-4532-4975-B628-BB528AED0C26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2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SNEMAN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8BF-7401-4C7A-BC75-BF04AA2161C7}" type="slidenum">
              <a:t>17</a:t>
            </a:fld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snem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nje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v studijih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,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teren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nokamernih snemanjih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Snemanje iz 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repor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nih avtomobil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v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7F9-3DE7-4A5D-891F-434BFCD045B7}" type="slidenum">
              <a:t>18</a:t>
            </a:fld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vod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ešalci slike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kontrole kame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grafi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8A0-BAC8-49CA-AB2E-B468ED28C82F}" type="slidenum">
              <a:t>19</a:t>
            </a:fld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PREGLED PROCESA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TV PRODUKCIJE </a:t>
            </a:r>
            <a:br>
              <a:rPr sz="6000"/>
            </a:br>
            <a:r>
              <a:rPr b="1" lang="en-US" sz="6000" spc="-1" strike="noStrike">
                <a:solidFill>
                  <a:srgbClr val="0066ff"/>
                </a:solidFill>
                <a:latin typeface="Chiller"/>
              </a:rPr>
              <a:t>(PRIPRAVA TV ODDAJE</a:t>
            </a:r>
            <a:r>
              <a:rPr b="1" lang="sl-SI" sz="6000" spc="-1" strike="noStrike">
                <a:solidFill>
                  <a:srgbClr val="0066ff"/>
                </a:solidFill>
                <a:latin typeface="Chiller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452680" cy="31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2EB-D6DA-42FC-A071-13A8EE835F94}" type="slidenum">
              <a:t>2</a:t>
            </a:fld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asistent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zvokovni tehnik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mojstr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i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 zvok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24B-A7F8-4D76-84E8-B6051BA5E594}" type="slidenum">
              <a:t>20</a:t>
            </a:fld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ODELUJOCI PRI SNEMANJU: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REZI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NASTOPAJOCI,</a:t>
            </a: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ITEL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SNEMALCEV IN KAMERMANOV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VIDEO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iller"/>
              </a:rPr>
              <a:t>SKUPINA ZA ZV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SKUPINA ZA  RAZSVELJA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290-E2C7-4B75-B23F-4EABF670E533}" type="slidenum">
              <a:t>21</a:t>
            </a:fld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00"/>
                </a:solidFill>
                <a:latin typeface="Chiller"/>
              </a:rPr>
              <a:t>2.3</a:t>
            </a: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10600" spc="-1" strike="noStrike">
                <a:solidFill>
                  <a:srgbClr val="ff0000"/>
                </a:solidFill>
                <a:latin typeface="Chiller"/>
              </a:rPr>
              <a:t>MONTAZ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5FB-50AD-4BDC-B0F8-2F520AA98BFA}" type="slidenum">
              <a:t>22</a:t>
            </a:fld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TV MONT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elektronsk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C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 (programirana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a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iller"/>
              </a:rPr>
              <a:t>OFF line monta</a:t>
            </a: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BF1-699A-48BE-AE18-16770E35D50C}" type="slidenum">
              <a:t>23</a:t>
            </a:fld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SKUPINA ZA GRAFIK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Klas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Ra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unalniš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-elektrons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grafik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92C-576A-4777-A149-9D410037EA48}" type="slidenum">
              <a:t>24</a:t>
            </a:fld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FOTOFILMSKI LABORATORIJ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R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zvij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 filme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ipr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filmov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oblikovn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obdelav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F6E-36EE-4195-B02D-2C7696629021}" type="slidenum">
              <a:t>25</a:t>
            </a:fld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MAGNETOSKOP IN TELEKI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snemanje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reprodukcij</a:t>
            </a: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a</a:t>
            </a: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iller"/>
              </a:rPr>
              <a:t>predvajan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391968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BF2-244B-453E-9F35-EDF879648D25}" type="slidenum">
              <a:t>26</a:t>
            </a:fld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9600" spc="-1" strike="noStrike">
                <a:solidFill>
                  <a:srgbClr val="ffff00"/>
                </a:solidFill>
                <a:latin typeface="Chiller"/>
              </a:rPr>
              <a:t>2.4</a:t>
            </a:r>
            <a:r>
              <a:rPr b="0" lang="sl-SI" sz="9600" spc="-1" strike="noStrike">
                <a:solidFill>
                  <a:srgbClr val="ffffff"/>
                </a:solidFill>
                <a:latin typeface="Chiller"/>
              </a:rPr>
              <a:t> </a:t>
            </a:r>
            <a:r>
              <a:rPr b="0" lang="sl-SI" sz="9600" spc="-1" strike="noStrike">
                <a:solidFill>
                  <a:srgbClr val="ff0000"/>
                </a:solidFill>
                <a:latin typeface="Chiller"/>
              </a:rPr>
              <a:t>LANSIRANJE ODDAJ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EA2-3D92-4BBF-8491-45B696B4DA1E}" type="slidenum">
              <a:t>27</a:t>
            </a:fld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V RAZDELILN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tehn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na kontrola produ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k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ci</a:t>
            </a: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j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 T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izmenjavo evrovizijskega program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000" spc="-1" strike="noStrike">
                <a:solidFill>
                  <a:srgbClr val="ffffff"/>
                </a:solidFill>
                <a:latin typeface="Chiller"/>
              </a:rPr>
              <a:t>s</a:t>
            </a: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atel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148-88A1-46C3-8139-6AFF362741C8}" type="slidenum">
              <a:t>28</a:t>
            </a:fld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iller"/>
              </a:rPr>
              <a:t>PREDVAJANJE PROGRAMO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televizij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ff"/>
                </a:solidFill>
                <a:latin typeface="Chiller"/>
              </a:rPr>
              <a:t>emitiranje satelitskega progra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C71-E0B5-4258-8FAE-875C4B976AA6}" type="slidenum">
              <a:t>29</a:t>
            </a:fld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NI KRITERIJI PRODUKCIJE TV ODDA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Sporocilo gledalc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Nacini produkcij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Tehnicna opr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6600" spc="-1" strike="noStrike">
                <a:solidFill>
                  <a:srgbClr val="ffffff"/>
                </a:solidFill>
                <a:latin typeface="Chiller"/>
              </a:rPr>
              <a:t>Organizacija projek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B6E-C605-445E-83A8-688CC0A57EB3}" type="slidenum">
              <a:t>3</a:t>
            </a:fld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7775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9A8-6006-4580-A03D-2292BB327355}" type="slidenum">
              <a:t>30</a:t>
            </a:fld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Konec </a:t>
            </a:r>
            <a:br>
              <a:rPr sz="5400"/>
            </a:b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osnov tv produkcij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8F5-D70E-4AA7-98EB-647E47AF68BC}" type="slidenum">
              <a:t>31</a:t>
            </a:fld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ff00"/>
                </a:solidFill>
                <a:latin typeface="Chiller"/>
              </a:rPr>
              <a:t>3. Primerjava SLO – ITA PRODUKCIJ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C0F-F97F-46C9-BE9C-F3320E80187D}" type="slidenum">
              <a:t>32</a:t>
            </a:fld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00"/>
                </a:solidFill>
                <a:latin typeface="Chiller"/>
              </a:rPr>
              <a:t>Primerjava SLO – ITA PRODUKCIJI</a:t>
            </a:r>
            <a:br>
              <a:rPr sz="4000"/>
            </a:b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tistega lepega popoldneva – buona domen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ANR – RAZVEDRILNA ODD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FORMAT – NEDELJO POPOL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80600" y="27082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link tlp                 link buona dome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1209600" cy="64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56000" y="184464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0E7-B4D2-43AA-88F6-A5718BCBF19E}" type="slidenum">
              <a:t>33</a:t>
            </a:fld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1700" spc="-1" strike="noStrike">
                <a:solidFill>
                  <a:srgbClr val="ff0000"/>
                </a:solidFill>
                <a:latin typeface="Chiller"/>
              </a:rPr>
              <a:t>Komentar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TICNE TOC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RAZLIK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1EC-602E-402D-8EBC-AE0D600C81CE}" type="slidenum">
              <a:t>34</a:t>
            </a:fld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1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DC8-B51E-4D6A-8F85-013003DE6AF4}" type="slidenum">
              <a:t>35</a:t>
            </a:fld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ff"/>
                </a:solidFill>
                <a:latin typeface="Chiller"/>
              </a:rPr>
              <a:t>PRIHODNOST TELEVIZIJ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00160" y="3144960"/>
            <a:ext cx="501984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C85-C665-4CE1-A6F3-3E803DFE3939}" type="slidenum">
              <a:t>36</a:t>
            </a:fld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TANDARDIZACI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IPTV spletna tv (siol tv, volja tel, t2, aditeya t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C digitalna kabelska TV (telemach – preizkus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digitalna TV (dodatne moznosti za še pestrejšo ponudbo program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-T , zemeljska digitalna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MB, DVB-H zemeljsko televizijsko omrezje za mobilne nap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DVB –S, DVB-S2  Sateletska digitalna tv - Digital Video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WEB TV – on line streaming t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Chiller"/>
              </a:rPr>
              <a:t>Novi standar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53480" y="0"/>
            <a:ext cx="1190520" cy="101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FDCA-77D0-4ED6-B79E-90729D5F6383}" type="slidenum">
              <a:t>37</a:t>
            </a:fld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PRENOS TV SIGNALA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 </a:t>
            </a:r>
            <a:br>
              <a:rPr sz="4400"/>
            </a:b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multimedijska konvergen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OPTICNO KABELSKO DIGITALNO OMREZJE – FTTH &gt;1 G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TELEFONSKO OMREZJE (OPTICNO) – ADSL2, VDSL, EDGE &gt;100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MOBILNO DIGITALNO OMREZJE -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SATELIT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ZEMELJSKO DIGITALNO ODD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Chiller"/>
              </a:rPr>
              <a:t>NOVE TEHNOLOGIJE PRENOSA SIG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1D1-5A70-47BF-A02A-F404C80F752D}" type="slidenum">
              <a:t>38</a:t>
            </a:fld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42968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C86-7C8B-4EA4-ACB5-080D6BB72E5D}" type="slidenum">
              <a:t>39</a:t>
            </a:fld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DDAJE (primer RTV S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"/>
              </a:rPr>
              <a:t>Informativ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5"/>
              </a:rPr>
              <a:t>Izobra</a:t>
            </a:r>
            <a:r>
              <a:rPr b="0" lang="sl-SI" sz="4400" spc="-1" strike="noStrike" u="sng">
                <a:solidFill>
                  <a:srgbClr val="009999"/>
                </a:solidFill>
                <a:uFillTx/>
                <a:latin typeface="Chiller"/>
                <a:hlinkClick r:id="rId6"/>
              </a:rPr>
              <a:t>z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7"/>
              </a:rPr>
              <a:t>eva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0"/>
              </a:rPr>
              <a:t>Kulturno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2"/>
              </a:rPr>
              <a:t>umetni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3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4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5"/>
              </a:rPr>
              <a:t>Otroš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6"/>
              </a:rPr>
              <a:t> -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7"/>
              </a:rPr>
              <a:t>mladinsk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8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19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0"/>
              </a:rPr>
              <a:t>Razvedrilne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1"/>
              </a:rPr>
              <a:t>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Chiller"/>
                <a:hlinkClick r:id="rId22"/>
              </a:rPr>
              <a:t>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Športne odd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Verske oddaj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3"/>
          <a:stretch/>
        </p:blipFill>
        <p:spPr>
          <a:xfrm>
            <a:off x="5508720" y="1341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4"/>
          <a:stretch/>
        </p:blipFill>
        <p:spPr>
          <a:xfrm>
            <a:off x="4500720" y="501336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5"/>
          <a:stretch/>
        </p:blipFill>
        <p:spPr>
          <a:xfrm>
            <a:off x="5580000" y="3701880"/>
            <a:ext cx="2160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B4F-A51F-4B85-8DBA-D1EF28E5CAAF}" type="slidenum">
              <a:t>4</a:t>
            </a:fld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5400" spc="-1" strike="noStrike">
                <a:solidFill>
                  <a:srgbClr val="ffffff"/>
                </a:solidFill>
                <a:latin typeface="Chiller"/>
              </a:rPr>
              <a:t>TV - MM VMESNI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ANALOG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HDM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ASERSK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LASMA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OBILNI TELEF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DLANC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PRENOSNI MINI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LCD PROJEKTOR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SET TOP BOX (siol tv, volja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MHP multimedia hom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Chiller"/>
              </a:rPr>
              <a:t>NOVI VMES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571920" cy="2381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84720" y="3645000"/>
            <a:ext cx="244800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5EF-9F3C-4114-BE83-94DA5317F462}" type="slidenum">
              <a:t>40</a:t>
            </a:fld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Predvidena prodaja ST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11280" y="1484280"/>
          <a:ext cx="7997760" cy="464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484280"/>
                    <a:ext cx="79977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3F1-3BE4-4EAF-B497-D8EAF268CAC1}" type="slidenum">
              <a:t>41</a:t>
            </a:fld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Chiller"/>
              </a:rPr>
              <a:t>VSEOBSEGAJOCI DOMACI KOMUNIKACIJSKI MEDIJ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PAY TV (prvovrstni filmi in posebni športni progra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OD (video na zahtev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ay-per-view (zaracunavanje na prika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VR  (osebni video snemalni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051-6E6D-4AAC-9FD4-A0FEC249EE29}" type="slidenum">
              <a:t>42</a:t>
            </a:fld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INTERAKTIVNOST </a:t>
            </a:r>
            <a:br>
              <a:rPr sz="4000"/>
            </a:br>
            <a:r>
              <a:rPr b="0" lang="sl-SI" sz="4000" spc="-1" strike="noStrike">
                <a:solidFill>
                  <a:srgbClr val="ffffff"/>
                </a:solidFill>
                <a:latin typeface="Chiller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325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i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nstant mess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on-dem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ban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V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it-IT" sz="3600" spc="-1" strike="noStrike">
                <a:solidFill>
                  <a:srgbClr val="ffffff"/>
                </a:solidFill>
                <a:latin typeface="Chiller"/>
              </a:rPr>
              <a:t>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mailing video predstavit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Chiller"/>
              </a:rPr>
              <a:t>TV nove sodobne aplikaci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69C-959A-4C61-B19D-FD7FA0955148}" type="slidenum">
              <a:t>43</a:t>
            </a:fld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online g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1209600"/>
            <a:ext cx="5905440" cy="443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5FE-E59C-4A5A-AAF2-1C63EBB278B7}" type="slidenum">
              <a:t>44</a:t>
            </a:fld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611760" cy="410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F28-21A7-4C53-81F2-25068FAB975B}" type="slidenum">
              <a:t>45</a:t>
            </a:fld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ele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63640" y="1628640"/>
            <a:ext cx="5815080" cy="40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A61-DD5F-47E5-B0E5-50F2853901DF}" type="slidenum">
              <a:t>46</a:t>
            </a:fld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V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24000" y="1413000"/>
            <a:ext cx="4772160" cy="42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9B3-E9C6-443A-AD4C-32B7060A5E66}" type="slidenum">
              <a:t>47</a:t>
            </a:fld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g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86400" cy="37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65F-8C25-4773-A6FF-3D85E3D6CF13}" type="slidenum">
              <a:t>48</a:t>
            </a:fld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nteractive Televisio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5068800" cy="380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618-A468-464B-A40F-4B637A931DE7}" type="slidenum">
              <a:t>49</a:t>
            </a:fld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ffff00"/>
              </a:buClr>
              <a:buFont typeface="Chill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200" spc="-1" strike="noStrike">
                <a:solidFill>
                  <a:srgbClr val="ffff00"/>
                </a:solidFill>
                <a:latin typeface="Chiller"/>
              </a:rPr>
              <a:t>PRIPRAVE</a:t>
            </a:r>
            <a:br>
              <a:rPr sz="14200"/>
            </a:br>
            <a:r>
              <a:rPr b="0" lang="sl-SI" sz="8000" spc="-1" strike="noStrike">
                <a:solidFill>
                  <a:srgbClr val="ffff00"/>
                </a:solidFill>
                <a:latin typeface="Chiller"/>
              </a:rPr>
              <a:t>PISNA DOKUMENTACIJ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021-EB98-4472-AFE1-57E518B1274A}" type="slidenum">
              <a:t>5</a:t>
            </a:fld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V 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promo</a:t>
            </a: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t</a:t>
            </a: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703840" cy="38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A40-E5A5-48D7-BAF7-78666833BBA7}" type="slidenum">
              <a:t>50</a:t>
            </a:fld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iller"/>
              </a:rPr>
              <a:t>Enter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55054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248-C1B7-4F40-9082-79350290517E}" type="slidenum">
              <a:t>51</a:t>
            </a:fld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PRED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Profesionalna produkcija tv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Bogati arhivi avdio-video vseb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ostopnost uporab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Interaktivnost – vplivanje na vseb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sesplošna raba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7D9-584E-4ECE-A1AC-3190A37F8E23}" type="slidenum">
              <a:t>52</a:t>
            </a:fld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SLAB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Zloraba informac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Neprimerna vse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Draga priprava in distribucija vse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Chiller"/>
              </a:rPr>
              <a:t>Vzpostavitev novih modernih omr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D2FA-4C4D-4BE1-B0F8-20A2866C92F2}" type="slidenum">
              <a:t>53</a:t>
            </a:fld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ffff"/>
                </a:solidFill>
                <a:latin typeface="Chiller"/>
              </a:rPr>
              <a:t>Konec 2. 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4E4-5DC3-48BD-B5EB-1FE48B7D37A9}" type="slidenum">
              <a:t>54</a:t>
            </a:fld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0024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INOPSIS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SCENARIJ</a:t>
            </a:r>
            <a:br>
              <a:rPr sz="8800"/>
            </a:b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67D-CB63-421D-970A-0353ECB9D404}" type="slidenum">
              <a:t>6</a:t>
            </a:fld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77760"/>
            <a:ext cx="5133960" cy="6780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200000">
            <a:off x="-3926520" y="3003840"/>
            <a:ext cx="974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6600" spc="-1" strike="noStrike">
                <a:solidFill>
                  <a:srgbClr val="ffffff"/>
                </a:solidFill>
                <a:latin typeface="Chiller"/>
              </a:rPr>
              <a:t>Zamisel, ideja, SINOP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3CD-2022-4057-847B-2AE93F96E5C5}" type="slidenum">
              <a:t>7</a:t>
            </a:fld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8880" y="138240"/>
            <a:ext cx="5286240" cy="6583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16200000">
            <a:off x="-1810800" y="2393280"/>
            <a:ext cx="5689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600" spc="-1" strike="noStrike">
                <a:solidFill>
                  <a:srgbClr val="ffffff"/>
                </a:solidFill>
                <a:latin typeface="Chiller"/>
              </a:rPr>
              <a:t>Scenarij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FCD-FA92-4E0F-ACF8-1577677FC8E8}" type="slidenum">
              <a:t>8</a:t>
            </a:fld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14560" y="66600"/>
            <a:ext cx="5114880" cy="672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6200000">
            <a:off x="-3554280" y="2768040"/>
            <a:ext cx="898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800" spc="-1" strike="noStrike">
                <a:solidFill>
                  <a:srgbClr val="ffffff"/>
                </a:solidFill>
                <a:latin typeface="Chiller"/>
              </a:rPr>
              <a:t>Televizijski skrip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432-7BE5-44CA-B513-0944F91D22FE}" type="slidenum">
              <a:t>9</a:t>
            </a:fld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1:55:29Z</dcterms:created>
  <dc:creator>jh</dc:creator>
  <dc:description/>
  <dc:language>en-US</dc:language>
  <cp:lastModifiedBy>jh</cp:lastModifiedBy>
  <dcterms:modified xsi:type="dcterms:W3CDTF">2006-11-09T09:03:17Z</dcterms:modified>
  <cp:revision>106</cp:revision>
  <dc:subject/>
  <dc:title>PRIHODNOST TELEVIZIJE</dc:title>
</cp:coreProperties>
</file>