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06F-BEBC-4858-8436-20F70450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DA8-39E7-4C1C-B0BD-70613FC4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FDA-3515-49D1-83E3-B3872B97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9E0-A879-44C9-8E35-3B35E914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B46-E404-4379-911C-56E8C427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17B6-F602-4A32-9E03-51FB370E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B8DD-E4CD-4574-963F-95FECADF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B25-036B-46BD-A3FD-AB16382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2897-4F3C-401A-824B-91FDAAE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7FC-7BD0-4C23-816D-B388BB21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547-595B-4655-BBFE-02C96BC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9A56-8FC6-4399-9062-B8879D73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7A92-D13C-43C0-8EBE-3DA5E17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389-D335-4058-9519-B95EB51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4CCC-82C9-45D3-AD79-66F1899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92E2-4694-4CB2-8BA7-4009883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784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4400" y="176688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784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4400" y="3915720"/>
            <a:ext cx="2500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2796-3C23-493F-A620-4269BDDB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499-EC2F-4E64-84CB-88941598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5E2-29EC-4340-B14B-DA92EB1B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203-00DB-4032-A8BD-EE3884D9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8892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7D5-536E-4E1F-B337-EB9CCBA4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50D-8B90-47EE-8F55-69B10BB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160" y="391572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469-A62A-4CFE-9CA1-6BECAE34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766880"/>
            <a:ext cx="37904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7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087-7546-479C-887B-E0BCBB8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8892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E2956C-5CCE-42A8-8AD4-432D555B9AB8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7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720"/>
            <a:ext cx="6399360" cy="25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0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7AEF0F-9A79-4BD4-90BD-3F4B524A32E5}" type="slidenum">
              <a:rPr b="0" lang="en-GB" sz="1400" spc="-1" strike="noStrike">
                <a:solidFill>
                  <a:srgbClr val="4824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SzPct val="105276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delavnica.com/" TargetMode="External"/><Relationship Id="rId3" Type="http://schemas.openxmlformats.org/officeDocument/2006/relationships/hyperlink" Target="http://www.3delavnica.com/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5790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uka Ža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jubljana, 20. 11.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7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Charles Emile Reynaud-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RAXINO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79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, Eadweard James Muybridge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OPRAXI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4. Digitaln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k ustvarja na računalniku v digitalni obl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onuja nam možnost izražanja skozi sliko in zv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ožnost kombiniranja digitalne umetnosti z analognimi oblikam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r>
              <a:rPr b="1" i="1" lang="en-GB" sz="4000" spc="-1" strike="noStrike" u="sng">
                <a:solidFill>
                  <a:srgbClr val="993300"/>
                </a:solidFill>
                <a:uFillTx/>
                <a:latin typeface="Times New Roman"/>
              </a:rPr>
              <a:t>področja digitaln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2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3D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nožični med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glas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5. Razvoj računalniške grafik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0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se pojavijo prvi risal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3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Ivan Sutherland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napiše prvi risarski računalniški program, 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SKETCH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08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4191120" cy="3406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37339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769160" cy="703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ebruar 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5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Michael Noll, Georg Ness, Friede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Nake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rva razstava digitalne umetnosti na svetu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Generativna računalniška graf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onec šestdesetih v New York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AT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Eksperiments in art and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rvi poskusi računalniške animacije; brat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John in James Whit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69;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skupina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SIGRAPP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79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festival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RS ELECTRONICA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6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v Linzu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CENTER DIGITAL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85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5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podjetje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AR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ustvari prvi računalniško animirani celovečerni film,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Toy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6. Digitalna umetnost v Slovenij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Edward Zajec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994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;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KIBERK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PIXXELPOI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3delavnica.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Domen Lomber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0" i="1" lang="en-GB" sz="2000" spc="-1" strike="noStrike">
                <a:solidFill>
                  <a:srgbClr val="482400"/>
                </a:solidFill>
                <a:latin typeface="Times New Roman"/>
              </a:rPr>
              <a:t>Birth of venus, avtor Domen Lombergar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85960" y="1876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586728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380844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Net art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ine razstavljene in dostopne izključno prek inter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Generativna umetnost</a:t>
            </a:r>
            <a:r>
              <a:rPr b="1" lang="en-GB" sz="2400" spc="-1" strike="noStrike" u="sng">
                <a:solidFill>
                  <a:srgbClr val="9933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toda za razvoj idej in iskanje novih rešitev na vseh področjih človekovega ustvarjanja</a:t>
            </a:r>
            <a:r>
              <a:rPr b="0" lang="en-GB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808440" cy="21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Machinima</a:t>
            </a:r>
            <a:r>
              <a:rPr b="1" lang="en-GB" sz="2800" spc="-1" strike="noStrike">
                <a:solidFill>
                  <a:srgbClr val="99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rst, ki je tesno povezana z računalniškimi i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Kaj je umetnos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819520"/>
            <a:ext cx="776916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ejavnosti, katere namen je ustvarjanje del z estetsko vrednost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2. Vrst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asbe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li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ledališ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odob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slikarst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kipar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plesna umetnost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1. 3. Kaj je namen umetnosti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65724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“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men umetnosti je catharsis, očiščenje, katerega doživi človek ob opazovanju umetniškega dela”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                    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(Aristot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Kaj je medij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2895120"/>
            <a:ext cx="776916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edij lahko opredelimo kot neke vrste naprave za prenos informaci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2. 1. Mediji v umetnosti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iz katerega je izdelano umetniško de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material katerega je umetnik uporabil za izražanje v ustvarjalnem proce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5280" y="3048120"/>
          <a:ext cx="723924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8120"/>
                    <a:ext cx="7239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143000" y="3200400"/>
            <a:ext cx="7543800" cy="3429000"/>
            <a:chOff x="1143000" y="3200400"/>
            <a:chExt cx="7543800" cy="3429000"/>
          </a:xfrm>
        </p:grpSpPr>
        <p:grpSp>
          <p:nvGrpSpPr>
            <p:cNvPr id="104" name=""/>
            <p:cNvGrpSpPr/>
            <p:nvPr/>
          </p:nvGrpSpPr>
          <p:grpSpPr>
            <a:xfrm>
              <a:off x="1149480" y="3203640"/>
              <a:ext cx="7530840" cy="3422520"/>
              <a:chOff x="1149480" y="3203640"/>
              <a:chExt cx="7530840" cy="3422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9480" y="3203640"/>
                <a:ext cx="3765600" cy="347760"/>
                <a:chOff x="1149480" y="3203640"/>
                <a:chExt cx="3765600" cy="347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2049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umetni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149480" y="32036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915080" y="3203640"/>
                <a:ext cx="3765240" cy="347760"/>
                <a:chOff x="4915080" y="3203640"/>
                <a:chExt cx="3765240" cy="3477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970520" y="32036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1" i="1" lang="en-GB" sz="1600" spc="-1" strike="noStrike" u="sng">
                      <a:solidFill>
                        <a:srgbClr val="993300"/>
                      </a:solidFill>
                      <a:uFillTx/>
                      <a:latin typeface="Times New Roman"/>
                      <a:ea typeface="Times New Roman"/>
                    </a:rPr>
                    <a:t>medij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915080" y="32036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149480" y="3549600"/>
                <a:ext cx="3765600" cy="347760"/>
                <a:chOff x="1149480" y="3549600"/>
                <a:chExt cx="3765600" cy="347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2049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lik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149480" y="35496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915080" y="3549600"/>
                <a:ext cx="3765240" cy="347760"/>
                <a:chOff x="4915080" y="3549600"/>
                <a:chExt cx="3765240" cy="347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970520" y="35496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barva, plat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915080" y="35496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149480" y="3897360"/>
                <a:ext cx="3765600" cy="446040"/>
                <a:chOff x="1149480" y="3897360"/>
                <a:chExt cx="3765600" cy="446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049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kip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149480" y="389736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915080" y="3897360"/>
                <a:ext cx="3765240" cy="446040"/>
                <a:chOff x="4915080" y="3897360"/>
                <a:chExt cx="3765240" cy="446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970520" y="389736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zlične vrste kamnin, lahko tudi les ali gli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915080" y="389736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149480" y="4343400"/>
                <a:ext cx="3765600" cy="446040"/>
                <a:chOff x="1149480" y="4343400"/>
                <a:chExt cx="3765600" cy="446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2049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arhitek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149480" y="434340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915080" y="4343400"/>
                <a:ext cx="3765240" cy="446040"/>
                <a:chOff x="4915080" y="4343400"/>
                <a:chExt cx="3765240" cy="446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70520" y="434340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zemlja, opeka,les, kamen beton, železobeton, razne kovine in stekl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915080" y="434340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1149480" y="4791240"/>
                <a:ext cx="3765600" cy="446040"/>
                <a:chOff x="1149480" y="4791240"/>
                <a:chExt cx="3765600" cy="446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2049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gra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49480" y="4791240"/>
                  <a:ext cx="376560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915080" y="4791240"/>
                <a:ext cx="3765240" cy="446040"/>
                <a:chOff x="4915080" y="4791240"/>
                <a:chExt cx="3765240" cy="446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970520" y="4791240"/>
                  <a:ext cx="365436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fotoaparat; - analogni (filmski trak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                 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- digitalni (fotosenzorji</a:t>
                  </a: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915080" y="4791240"/>
                  <a:ext cx="3765240" cy="44604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149480" y="5237280"/>
                <a:ext cx="3765600" cy="347400"/>
                <a:chOff x="1149480" y="5237280"/>
                <a:chExt cx="3765600" cy="3474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2049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isatelj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149480" y="5237280"/>
                  <a:ext cx="376560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915080" y="5237280"/>
                <a:ext cx="3765240" cy="347400"/>
                <a:chOff x="4915080" y="5237280"/>
                <a:chExt cx="3765240" cy="34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970520" y="5237280"/>
                  <a:ext cx="3654360" cy="3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papir (knjig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915080" y="5237280"/>
                  <a:ext cx="3765240" cy="34740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149480" y="5584680"/>
                <a:ext cx="3765600" cy="347760"/>
                <a:chOff x="1149480" y="5584680"/>
                <a:chExt cx="3765600" cy="3477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2049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eži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149480" y="558468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915080" y="5584680"/>
                <a:ext cx="3765240" cy="347760"/>
                <a:chOff x="4915080" y="5584680"/>
                <a:chExt cx="3765240" cy="3477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970520" y="558468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video kamera, filmski trak, DV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5080" y="558468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149480" y="5932440"/>
                <a:ext cx="3765600" cy="347760"/>
                <a:chOff x="1149480" y="5932440"/>
                <a:chExt cx="3765600" cy="347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049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eni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149480" y="593244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915080" y="5932440"/>
                <a:ext cx="3765240" cy="347760"/>
                <a:chOff x="4915080" y="5932440"/>
                <a:chExt cx="3765240" cy="3477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70520" y="593244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glasbilo, C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915080" y="593244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149480" y="6278400"/>
                <a:ext cx="3765600" cy="347760"/>
                <a:chOff x="1149480" y="6278400"/>
                <a:chExt cx="3765600" cy="3477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2049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spletni oblikovale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149480" y="6278400"/>
                  <a:ext cx="376560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915080" y="6278400"/>
                <a:ext cx="3765240" cy="347760"/>
                <a:chOff x="4915080" y="6278400"/>
                <a:chExt cx="3765240" cy="3477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70520" y="6278400"/>
                  <a:ext cx="3654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993300"/>
                      </a:solidFill>
                      <a:latin typeface="Times New Roman"/>
                      <a:ea typeface="Times New Roman"/>
                    </a:rPr>
                    <a:t>računalnik, disk, sple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915080" y="6278400"/>
                  <a:ext cx="3765240" cy="347760"/>
                </a:xfrm>
                <a:prstGeom prst="rect">
                  <a:avLst/>
                </a:prstGeom>
                <a:noFill/>
                <a:ln w="93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1143000" y="3200400"/>
              <a:ext cx="754380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Medijska umetnos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69520" cy="48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umetnost, ki je bila ustvarjena s tehnologijo 20. stole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nasprotje ali sodobni razvoj klasične ume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je v kakršnikoli povezavi s telekomunikacijami, množičnimi mediji in digitalnim načinom predstavitve nekega umetniškega izde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1. Medijska umetnost v splošnem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računalniš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digit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elektronska umetn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genera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formacijsk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akti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internet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zvokov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993300"/>
                </a:solidFill>
                <a:latin typeface="Times New Roman"/>
              </a:rPr>
              <a:t>vizualna umet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993300"/>
                </a:solidFill>
                <a:latin typeface="Times New Roman"/>
              </a:rPr>
              <a:t>3. 2. Zgodovina medijske umetnosti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•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Leto </a:t>
            </a:r>
            <a:r>
              <a:rPr b="0" i="1" lang="en-GB" sz="2800" spc="-1" strike="noStrike" u="sng">
                <a:solidFill>
                  <a:srgbClr val="993300"/>
                </a:solidFill>
                <a:uFillTx/>
                <a:latin typeface="Times New Roman"/>
              </a:rPr>
              <a:t>1834</a:t>
            </a:r>
            <a:r>
              <a:rPr b="0" i="1" lang="en-GB" sz="2800" spc="-1" strike="noStrike">
                <a:solidFill>
                  <a:srgbClr val="9933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993300"/>
                </a:solidFill>
                <a:latin typeface="Times New Roman"/>
              </a:rPr>
              <a:t>ZOET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114800" cy="434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