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11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77F7-7ECC-4E19-BCD8-91B602D8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F673-9527-4FAA-ADD9-60509E6C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16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2655-A99E-4B97-B3A1-2E89AED1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84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440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84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440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EB73-2B7F-4D52-90A3-AD67068A0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31BC-D98E-49C1-922D-D6B14EB4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E264-E4E2-4A55-B376-6622B87F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611B-4D6F-4367-B760-7ACFA941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B175-9E2C-410E-B48A-F397C9ED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0D71-D4C9-4444-A52D-4D26FEEF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8892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8980-0B4C-4840-9E94-95F4AE8B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6D3B-7BCD-4CA3-94F5-70E3F659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2F1F-9374-4B48-9859-C7E1B16A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16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8456-145D-4AB6-9CE2-76081CE8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48D8-BEE7-41A7-BB88-A7A851E7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EE80-0B90-462D-8DFD-271035ED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16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2D9E-4BDA-4F89-9F4D-781A744E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784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440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784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440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F832-C27B-4CD6-9587-EC004F1F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A7DC-DD0C-4890-93E3-69612EB6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1CC6-9F07-47D7-A6F7-29FB5EC5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4E02-D542-4CAB-976E-6B68E194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8892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CAAD-7F25-4158-82B4-3B91D8EB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6AAF-EA37-4D17-9E9A-C168EFE9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16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57E2-1A87-4347-B5C6-2EEAC840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E0DF-709F-4B32-B2DC-913EF9DE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A00B08-5292-43BA-AFC5-E3A62292FEA9}" type="slidenum"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SzPct val="105276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720"/>
            <a:ext cx="6399360" cy="25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04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F3ABA47-97BD-4AD5-9340-6436330DD5A1}" type="slidenum"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SzPct val="105276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3delavnica.com/" TargetMode="External"/><Relationship Id="rId3" Type="http://schemas.openxmlformats.org/officeDocument/2006/relationships/hyperlink" Target="http://www.3delavnica.com/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00200" y="836280"/>
            <a:ext cx="64008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MEDIJSKA UMETNOS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040" y="5790960"/>
            <a:ext cx="2133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Luka Ža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579132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Ljubljana, 20. 11.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leto </a:t>
            </a:r>
            <a:r>
              <a:rPr b="0" i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877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, Charles Emile Reynaud-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PRAXINO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leto </a:t>
            </a:r>
            <a:r>
              <a:rPr b="0" i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879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, Eadweard James Muybridge-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ZOOPRAXI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4. Digitalna umetnos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5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vizual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umetnik ustvarja na računalniku v digitalni obl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ponuja nam možnost izražanja skozi sliko in zv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ožnost kombiniranja digitalne umetnosti z analognimi oblikami komun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 u="sng">
                <a:solidFill>
                  <a:srgbClr val="993300"/>
                </a:solidFill>
                <a:uFillTx/>
                <a:latin typeface="Times New Roman"/>
              </a:rPr>
              <a:t> </a:t>
            </a:r>
            <a:r>
              <a:rPr b="1" i="1" lang="en-GB" sz="4000" spc="-1" strike="noStrike" u="sng">
                <a:solidFill>
                  <a:srgbClr val="993300"/>
                </a:solidFill>
                <a:uFillTx/>
                <a:latin typeface="Times New Roman"/>
              </a:rPr>
              <a:t>področja digitalne umetnosti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2D graf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3D graf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nožični medi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elektronska glas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5. Razvoj računalniške grafike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60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se pojavijo prvi risaln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63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Ivan Sutherland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napiše prvi risarski računalniški program, </a:t>
            </a:r>
            <a:r>
              <a:rPr b="1" lang="en-GB" sz="2800" spc="-1" strike="noStrike">
                <a:solidFill>
                  <a:srgbClr val="993300"/>
                </a:solidFill>
                <a:latin typeface="Times New Roman"/>
              </a:rPr>
              <a:t>SKETCHP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33640" y="20811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4191120" cy="3406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5257800" y="3276720"/>
            <a:ext cx="3733920" cy="34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990360" y="380520"/>
            <a:ext cx="7769160" cy="70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februar 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65;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Michael Noll, Georg Ness, Frieder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Nake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prva razstava digitalne umetnosti na svetu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Generativna računalniška graf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konec šestdesetih v New Yorku;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EAT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(Eksperiments in art and technolog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prvi poskusi računalniške animacije; brata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John in James Whit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69;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skupina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SIGRAPP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79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v Linzu; festival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ARS ELECTRONICA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96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v Linzu;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CENTER DIGITALNE UME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85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AM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95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podjetje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PIXAR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ustvari prvi računalniško animirani celovečerni film,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Toy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6. Digitalna umetnost v Sloveniji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Edward Zajec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94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KIBERKUL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PIXXELPOIN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3delavnica.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Domen Lomber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85960" y="18763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482400"/>
                </a:solidFill>
                <a:latin typeface="Times New Roman"/>
              </a:rPr>
              <a:t>   </a:t>
            </a:r>
            <a:r>
              <a:rPr b="0" i="1" lang="en-GB" sz="2000" spc="-1" strike="noStrike">
                <a:solidFill>
                  <a:srgbClr val="482400"/>
                </a:solidFill>
                <a:latin typeface="Times New Roman"/>
              </a:rPr>
              <a:t>Birth of venus, avtor Domen Lombergar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85960" y="18763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600200" y="1752480"/>
            <a:ext cx="5867280" cy="483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066320" y="1066680"/>
            <a:ext cx="380844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Net art</a:t>
            </a:r>
            <a:r>
              <a:rPr b="1" lang="en-GB" sz="28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umetnine razstavljene in dostopne izključno prek inter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Generativna umetnost</a:t>
            </a:r>
            <a:r>
              <a:rPr b="1" lang="en-GB" sz="2400" spc="-1" strike="noStrike" u="sng">
                <a:solidFill>
                  <a:srgbClr val="9933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etoda za razvoj idej in iskanje novih rešitev na vseh področjih človekovega ustvarjanja</a:t>
            </a:r>
            <a:r>
              <a:rPr b="0" lang="en-GB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52520" y="1066680"/>
            <a:ext cx="3808440" cy="21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Machinima</a:t>
            </a:r>
            <a:r>
              <a:rPr b="1" lang="en-GB" sz="28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zvrst, ki je tesno povezana z računalniškimi igr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1. Kaj je umetnost?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1640" y="2819520"/>
            <a:ext cx="776916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dejavnosti, katere namen je ustvarjanje del z estetsko vrednost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1. 2. Vrste umetnosti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glasbe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likov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gledališ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fi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sodob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slikarstv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kipar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plesna umetnost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6858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1. 3. Kaj je namen umetnosti?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480" y="365724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“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namen umetnosti je catharsis, očiščenje, katerega doživi človek ob opazovanju umetniškega dela”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                  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(Aristot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2. Kaj je medij?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2895120"/>
            <a:ext cx="776916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edij lahko opredelimo kot neke vrste naprave za prenos informaci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2. 1. Mediji v umetnosti</a:t>
            </a:r>
            <a:r>
              <a:rPr b="0" lang="en-GB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aterial iz katerega je izdelano umetniško de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aterial katerega je umetnik uporabil za izražanje v ustvarjalnem proce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295280" y="3048120"/>
          <a:ext cx="7239240" cy="350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3048120"/>
                    <a:ext cx="723924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" name=""/>
          <p:cNvGrpSpPr/>
          <p:nvPr/>
        </p:nvGrpSpPr>
        <p:grpSpPr>
          <a:xfrm>
            <a:off x="1143000" y="3200400"/>
            <a:ext cx="7543800" cy="3429000"/>
            <a:chOff x="1143000" y="3200400"/>
            <a:chExt cx="7543800" cy="3429000"/>
          </a:xfrm>
        </p:grpSpPr>
        <p:grpSp>
          <p:nvGrpSpPr>
            <p:cNvPr id="104" name=""/>
            <p:cNvGrpSpPr/>
            <p:nvPr/>
          </p:nvGrpSpPr>
          <p:grpSpPr>
            <a:xfrm>
              <a:off x="1149480" y="3203640"/>
              <a:ext cx="7530840" cy="3422520"/>
              <a:chOff x="1149480" y="3203640"/>
              <a:chExt cx="7530840" cy="342252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1149480" y="3203640"/>
                <a:ext cx="3765600" cy="347760"/>
                <a:chOff x="1149480" y="3203640"/>
                <a:chExt cx="3765600" cy="3477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1204920" y="320364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1" i="1" lang="en-GB" sz="1600" spc="-1" strike="noStrike" u="sng">
                      <a:solidFill>
                        <a:srgbClr val="993300"/>
                      </a:solidFill>
                      <a:uFillTx/>
                      <a:latin typeface="Times New Roman"/>
                      <a:ea typeface="Times New Roman"/>
                    </a:rPr>
                    <a:t>umetni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149480" y="320364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915080" y="3203640"/>
                <a:ext cx="3765240" cy="347760"/>
                <a:chOff x="4915080" y="3203640"/>
                <a:chExt cx="3765240" cy="3477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4970520" y="320364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1" i="1" lang="en-GB" sz="1600" spc="-1" strike="noStrike" u="sng">
                      <a:solidFill>
                        <a:srgbClr val="993300"/>
                      </a:solidFill>
                      <a:uFillTx/>
                      <a:latin typeface="Times New Roman"/>
                      <a:ea typeface="Times New Roman"/>
                    </a:rPr>
                    <a:t>medij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915080" y="320364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1149480" y="3549600"/>
                <a:ext cx="3765600" cy="347760"/>
                <a:chOff x="1149480" y="3549600"/>
                <a:chExt cx="3765600" cy="3477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1204920" y="354960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slika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149480" y="354960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4915080" y="3549600"/>
                <a:ext cx="3765240" cy="347760"/>
                <a:chOff x="4915080" y="3549600"/>
                <a:chExt cx="3765240" cy="3477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970520" y="354960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barva, platn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915080" y="354960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1149480" y="3897360"/>
                <a:ext cx="3765600" cy="446040"/>
                <a:chOff x="1149480" y="3897360"/>
                <a:chExt cx="3765600" cy="44604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1204920" y="389736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kipa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149480" y="3897360"/>
                  <a:ext cx="376560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915080" y="3897360"/>
                <a:ext cx="3765240" cy="446040"/>
                <a:chOff x="4915080" y="3897360"/>
                <a:chExt cx="3765240" cy="44604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970520" y="389736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različne vrste kamnin, lahko tudi les ali glina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915080" y="3897360"/>
                  <a:ext cx="376524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1149480" y="4343400"/>
                <a:ext cx="3765600" cy="446040"/>
                <a:chOff x="1149480" y="4343400"/>
                <a:chExt cx="3765600" cy="44604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1204920" y="434340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arhitek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149480" y="4343400"/>
                  <a:ext cx="376560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4915080" y="4343400"/>
                <a:ext cx="3765240" cy="446040"/>
                <a:chOff x="4915080" y="4343400"/>
                <a:chExt cx="3765240" cy="4460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970520" y="434340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zemlja, opeka,les, kamen beton, železobeton, razne kovine in stekl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915080" y="4343400"/>
                  <a:ext cx="376524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1149480" y="4791240"/>
                <a:ext cx="3765600" cy="446040"/>
                <a:chOff x="1149480" y="4791240"/>
                <a:chExt cx="3765600" cy="4460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1204920" y="479124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fotograf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149480" y="4791240"/>
                  <a:ext cx="376560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4915080" y="4791240"/>
                <a:ext cx="3765240" cy="446040"/>
                <a:chOff x="4915080" y="4791240"/>
                <a:chExt cx="3765240" cy="4460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4970520" y="479124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fotoaparat; - analogni (filmski trak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                  </a:t>
                  </a: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- digitalni (fotosenzorji</a:t>
                  </a: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)                  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915080" y="4791240"/>
                  <a:ext cx="376524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1149480" y="5237280"/>
                <a:ext cx="3765600" cy="347400"/>
                <a:chOff x="1149480" y="5237280"/>
                <a:chExt cx="3765600" cy="3474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1204920" y="5237280"/>
                  <a:ext cx="3654360" cy="3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pisatelj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149480" y="5237280"/>
                  <a:ext cx="3765600" cy="347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4915080" y="5237280"/>
                <a:ext cx="3765240" cy="347400"/>
                <a:chOff x="4915080" y="5237280"/>
                <a:chExt cx="3765240" cy="3474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970520" y="5237280"/>
                  <a:ext cx="3654360" cy="3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papir (knjiga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915080" y="5237280"/>
                  <a:ext cx="3765240" cy="347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1149480" y="5584680"/>
                <a:ext cx="3765600" cy="347760"/>
                <a:chOff x="1149480" y="5584680"/>
                <a:chExt cx="3765600" cy="3477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204920" y="558468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reži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149480" y="558468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915080" y="5584680"/>
                <a:ext cx="3765240" cy="347760"/>
                <a:chOff x="4915080" y="5584680"/>
                <a:chExt cx="3765240" cy="34776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4970520" y="558468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video kamera, filmski trak, DV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915080" y="558468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1149480" y="5932440"/>
                <a:ext cx="3765600" cy="347760"/>
                <a:chOff x="1149480" y="5932440"/>
                <a:chExt cx="3765600" cy="3477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204920" y="593244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glasbeni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149480" y="593244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4915080" y="5932440"/>
                <a:ext cx="3765240" cy="347760"/>
                <a:chOff x="4915080" y="5932440"/>
                <a:chExt cx="3765240" cy="3477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970520" y="593244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glasbilo, C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915080" y="593244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1149480" y="6278400"/>
                <a:ext cx="3765600" cy="347760"/>
                <a:chOff x="1149480" y="6278400"/>
                <a:chExt cx="3765600" cy="34776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1204920" y="627840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spletni oblikovale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149480" y="627840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915080" y="6278400"/>
                <a:ext cx="3765240" cy="347760"/>
                <a:chOff x="4915080" y="6278400"/>
                <a:chExt cx="3765240" cy="34776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970520" y="627840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računalnik, disk, sple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915080" y="627840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" name=""/>
            <p:cNvSpPr/>
            <p:nvPr/>
          </p:nvSpPr>
          <p:spPr>
            <a:xfrm>
              <a:off x="1143000" y="3200400"/>
              <a:ext cx="7543800" cy="3429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3. Medijska umetnos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69520" cy="48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umetnost, ki je bila ustvarjena s tehnologijo 20. stolet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nasprotje ali sodobni razvoj klasične ume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je v kakršnikoli povezavi s telekomunikacijami, množičnimi mediji in digitalnim načinom predstavitve nekega umetniškega izdel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37908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3. 1. Medijska umetnost v splošnem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6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računalnišk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digital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elektronska umetno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generativ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informacijsk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interaktiv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internet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zvokov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vizual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3. 2. Zgodovina medijske umetnosti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Leto </a:t>
            </a:r>
            <a:r>
              <a:rPr b="0" i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834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-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ZOET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276720" y="2286000"/>
            <a:ext cx="4114800" cy="4340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