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215C-FE22-4DE6-B97F-DEA9F2AA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63DC-77BC-47F1-8867-56414567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640F-4A5E-4107-9FA3-30C4A47B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7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7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B8B1-1C2A-41B8-9D22-438FA312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5631-224D-4D57-A431-B68A8161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53AF-E7A9-4E65-AA0F-64939EF1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009A-2B41-4096-8780-91FB4CD3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2757-CDAB-4728-98A6-9156781C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260C-4712-4A77-B8BA-F64DA001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760" y="127080"/>
            <a:ext cx="82245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F6C3-5EDD-4C39-AE9B-26F6E525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80F3-AC6F-48A5-80DD-673C9CE8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44DF-83D4-4644-8CC6-2DA0AF49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D269-2F05-4289-B390-04760384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F6EF-9698-4AC7-8641-A9BEBF6B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F851-6058-47A3-8BBE-0A05026F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5CFB-8143-4A82-9E06-904A853E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7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7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8D10-1238-4A89-A88D-E005C733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B880-0F45-4C80-8213-1723324B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C5D0-938B-4159-BD3C-D1E9171E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848A-A31A-437F-BA21-8FD4C2B8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760" y="127080"/>
            <a:ext cx="82245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C192-D0E9-4D11-A6F7-F0526DD8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B316-58EE-425C-880D-A7FA320C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5BAE-6C50-4369-8E01-11FC6C9B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6316-01A3-478E-A443-7925219D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28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3720" y="624168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29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FD6248-9D11-4372-B5A4-B210E59E1AEB}" type="slidenum">
              <a: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28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3720" y="624168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29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0955C64-C366-4F6E-AE14-05042C47DAFC}" type="slidenum">
              <a: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omafm.com/" TargetMode="External"/><Relationship Id="rId2" Type="http://schemas.openxmlformats.org/officeDocument/2006/relationships/hyperlink" Target="http://www.radio-locator.com/" TargetMode="External"/><Relationship Id="rId3" Type="http://schemas.openxmlformats.org/officeDocument/2006/relationships/hyperlink" Target="http://www.radio-locator.com/" TargetMode="External"/><Relationship Id="rId4" Type="http://schemas.openxmlformats.org/officeDocument/2006/relationships/hyperlink" Target="http://windows.hacker.la/clanki/internetni_radio.html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Audio produkcija-radijska oddaj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900000" y="1197000"/>
            <a:ext cx="7201080" cy="54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Radijska produkcij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Tehnična produkcija progra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(ustvarjanje program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Tehnično tehnološka skupin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(ekipa, ki skrbi za aparature in oprem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ehnična produkcija program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kupina za govorna snemanja, predvajanja in izdelovanja radijskih oddaj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(špiker-voditelj, novinar, 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kupina za glasbena snemanja in režirane oddaj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(radijski tehniki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Špiker – radijski tehni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4037040" cy="61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Špiker govori v eter, vodi oddajo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Lahko dela sam OMB (One Man Band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Ali pa mu pomaga tehnik, ki  skrbi za podlago, klice, glasbo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932360" y="1598760"/>
            <a:ext cx="3240000" cy="21636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932360" y="3933720"/>
            <a:ext cx="3240000" cy="21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Novin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Novinar opravlja novinarsko delo na terenu, prinaša informacije, pripravlja prispevke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427640" y="3014640"/>
            <a:ext cx="4105080" cy="30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dda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1628640"/>
            <a:ext cx="4032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Pogovorne (talk show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Glasbe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Informativ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Zabav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214960" y="1598760"/>
            <a:ext cx="2670120" cy="20034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179360" y="3922560"/>
            <a:ext cx="2816280" cy="2365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5219640" y="3933720"/>
            <a:ext cx="229392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Radijski stud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ešalna miza (digitalna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Pretvornik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agnetofo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Ojačevalnik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ikrofon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Predvajalnik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Računalnik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(komentatorski sistem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5760" y="1940040"/>
            <a:ext cx="4037040" cy="38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Internetni rad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52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Oddaja se preko internetnega omrežj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Dosegljiv od vse povso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Večje radijske postaj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Manjše domače radijske postaj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Računalnik, programska opre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Broadcasting, streaming, codec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MP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Internetni rad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oma F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Winam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Radio –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Loc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5b2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Kako postaviti svoj internetni rad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3924360" y="1593720"/>
            <a:ext cx="4751280" cy="415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