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3CB-6EFD-4668-8953-885C63FC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EA3-068C-4539-B7DD-25D4640C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F9E-E774-44AD-A21D-45FDF8B7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9FF-945E-4257-BDEE-7A89290E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597-4235-4A2B-A6CE-C704611A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70F-EBC6-4C9E-B588-A9DCCD8F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761-838F-4C38-9837-1A0C4F7C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8E5-2DC6-4C0A-ABA0-EEDF5EFA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822-24F4-4ED8-9B09-3D2ED04B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C70-36C7-416E-8402-EDA27A71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543-7C6A-4F26-BDE7-146B3980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E4B-02F8-402D-9678-9165C4EA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58A6-CC81-48A9-A887-9D98B3DDA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upatam.com/si/" TargetMode="External"/><Relationship Id="rId4" Type="http://schemas.openxmlformats.org/officeDocument/2006/relationships/hyperlink" Target="http://www.mitjaokorn.si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egled procesa filmske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12000" y="5805000"/>
            <a:ext cx="2727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ka Kov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ntaža videa in av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nhronizacija zv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LI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Promo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na st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Glasbeni alb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Jumbo plak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4286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lovenski film Tu pa tam sem s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nesel z interneta in pogledal d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055 (61,4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lma nisem gle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1248 (25,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95 (7,9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doma in nato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277 (5,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43080" y="62564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4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deo in dokumenta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95640" y="3645000"/>
            <a:ext cx="43812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050920" y="3573360"/>
            <a:ext cx="4753080" cy="24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Slovenski low budget film TU PA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Režiser Mitja Ok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43815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>
            <a:hlinkClick r:id="rId3"/>
          </p:cNvPr>
          <p:cNvSpPr/>
          <p:nvPr/>
        </p:nvSpPr>
        <p:spPr>
          <a:xfrm>
            <a:off x="799920" y="45324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tupata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815040" y="501336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mitjaokorn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Zgodovina slovenskega fil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905 dr. Karol Gros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dhod od ma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ejem v Ljutom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Na domačem vrtu (19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86064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1 Janko Ra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 kraljestvu Zlator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229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2 Ferdo De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iglavske st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Filmska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6680" y="652320"/>
            <a:ext cx="881064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4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Zbiranje denar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5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Š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vd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črtovanje ur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kanje loka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635280" y="3213000"/>
            <a:ext cx="5272200" cy="35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nem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seb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03640" y="2685960"/>
            <a:ext cx="5775120" cy="38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203640" y="2141640"/>
            <a:ext cx="575604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1:22:31Z</dcterms:created>
  <dc:creator>Uporabnik</dc:creator>
  <dc:description/>
  <dc:language>en-US</dc:language>
  <cp:lastModifiedBy>Uporabnik</cp:lastModifiedBy>
  <dcterms:modified xsi:type="dcterms:W3CDTF">2006-11-21T13:03:52Z</dcterms:modified>
  <cp:revision>6</cp:revision>
  <dc:subject/>
  <dc:title>Pregled procesa filmske produkcije</dc:title>
</cp:coreProperties>
</file>