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6DF-50EC-4A1B-9EE3-1C4FDF26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BBD-15C5-4E35-9586-3E92602D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48A-AC65-4AFF-A548-D78253AA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976-3EAB-4CA6-A6C8-D549CE0C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F06F-33EA-4AF1-85CF-17BA91EF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D77C-6BC8-4119-9DD2-1FBDD038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5AC1-400A-4A74-A733-FBA17EC5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8A8B-CC1B-4EC0-B96E-FA8A6762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608C-D23C-4AC8-884D-AB2C8E7A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0B72-19EB-4DF5-A498-C26D0FD8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B837-29F8-42AD-BEDE-204B7DC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CA0-0B8F-411C-99A1-45975560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E9D8-46D4-44D3-AEF9-4931CBE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D579-B6E8-492C-BF0B-DBD65506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FE25-7E04-4FB5-A3D4-5373CD1F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6A08-A6A1-44CE-B980-0E2E2ACF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B3D7-CC34-47C9-A22B-3BA4570B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8E6-36BA-4ADB-84B0-4BB5B77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6AB-EE57-4766-AF92-B6268C00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37D-A6AA-424E-8C08-9EABC459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AF9-4141-49C7-A500-DC78A228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53C-E126-4F5D-97A0-483A361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D7A-0C2C-4DEA-B814-3C0DDDA4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8CA-ECE6-4F88-B33B-D78515F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764153-98BE-4E20-8F2A-F5A410CA51A8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EF756D-4A80-44B0-8846-21E8E1D5AB43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99ff66"/>
                </a:solidFill>
                <a:latin typeface="Arial Black"/>
              </a:rPr>
              <a:t>Problem identitete in zasebnosti v medijih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tor: Bosnić 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Črvi (ang. Worm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širijo se preko omrežja in avtomatiziranih mehanizm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prva so neopazni kasneje pa se lahko kažejo v počasnosti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dostop in nadzor nad našim računalnikom s strani tretjih os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brisanje datotek, spreminjanje nastavitev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Prevare z e-pošto </a:t>
            </a: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(ang. E-mail spoofing)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elektronski nabiralnik dobimo sporočilo od “sistemskega administratorja”, ki od nas zahteva menjavo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i elektronsko sporočilo, ki od nas zahteva da pošljemo kopije datotek z gesli in druge pomembne inform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Vohunjenje paketov </a:t>
            </a:r>
            <a:br>
              <a:rPr sz="4400"/>
            </a:b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(ang. Packet sniff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hnika, ki pregleduje in izloča informacije (gesla, uporabniška imena,..) iz informacijskih pake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 pridobljenimi podatki lahko vsiljivec sproži obsežen napad na sist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kabelskega dostopa so bolj ranljivi na takšne progr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ibarjenje (ang. phish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ssword (geslo) + fishing (ribarjen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ktronsko pismo ali spletna stran od nas zahteva, da vanjo vnesemo svoje finančne podatke ali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letna stran ali elektronsko pismo sta na pogled identični originalni spletni strani ali p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harm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posredni napadi na DNS strežnike ali na datoteko o gostiteljih (ang. Ho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so nevede preusmerjeni na zlonamerne spletne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 strani so popolna kopija originaln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a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oročilo, ki je poslano večjemu številu naslovnikov, z namenom vsiljevanja vsebine, ki se je naslovniki sami ne bi odločili prejem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večini primerov gre za oglaševanje plačljivih storitev in izdelkov dvomljive kval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385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yw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grami namenje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prikritemu) zbiranju osebnih podat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kazovanju oglasov (ang. ad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usmerjanju spletnih brskalnikov (ang. Browser hijack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z. različnim nezakonitim dejavnostim (ang. Mal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iškotki (ang. Cookie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formacije, ki se ob obisku posamezne spletne strani shranijo na naš računalnik in so po potrebi ponovno uporablje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osnovi so zelo uporabni, nevarnost nam predstavljajo šele kadar so zlorabljeni za neprimerno upora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Nekaj nasvetov ob deskanju po spletu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koli ne odgovarjajmo na elektronska pisma, ki od nas zahtevajo osebne in finančne podat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o se prijavljamo na spletne strani, ki imajo karkoli opraviti z denarjem, njihov spletni (url) naslov obvezno vtipkamo direktno v naslovno vr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ebnih in finančnih podatkov nikoli ne pošiljamo s pomočjo elektronske poš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računalniku imamo vedno nameščene najnovejše popravke operacijskega sistema (npr. windows update) in posodobljen antivirusni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6520" y="1905120"/>
            <a:ext cx="8007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š brskalnik lahko nastavimo tako, da pred shranjevanjem piškotka na naš računalnik vpraša za dovoljenje in tako dobimo dober pregled nad tem, katere strani zbirajo in shranjujejo informacije o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dimo pozorni tudi pri spletnem nakupovanju (nakupujmo v priznanih spletnih trgovinah, osebni podatki naj ostanejo zasebn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sa gesla ki jih uporabljamo, naj bodo močna (ni dobro uporabljati rojstnih datumov, telefonskih številk, ime ps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36520" y="1905120"/>
            <a:ext cx="800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Kraja identitete </a:t>
            </a:r>
            <a:br>
              <a:rPr sz="4800"/>
            </a:b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(ang. Identity thef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Do naših osebnih podatkov lahko tatovi pridejo na več načinov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mpster d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ki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anging th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ld- fashioned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6520" y="1905120"/>
            <a:ext cx="80074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Včasih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informacije o državljanih napisane na papirju in shranjene v arhiv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anes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ktronska obdelava podatkov, večina osebnih podatkov shranjena v računalniškem siste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8880" y="426600"/>
            <a:ext cx="83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b7"/>
                </a:solidFill>
                <a:latin typeface="Arial Black"/>
              </a:rPr>
              <a:t>Osebni podatki o državljanih so lahko koristni predvsem z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1905120"/>
            <a:ext cx="8007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ržavo (npr. zasledovanje za potrebe kazenskih pregonov ali finančnih preverjan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jne služ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stvene nam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tove ident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Namerne zlorabe našega računalnik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rojanski kon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a od osnovnih različic škodljive programske op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dstavlja se kot uporaben ali zabaven program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čuje datoteke in ustvari t.i. back do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retjim osebam omogoča popoln nadzor nad našim računalnikom in dadotekami na nj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ačunalniški viru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samodej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kužijo “zdrave” programe ali datote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zelo hi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ina</dc:creator>
  <dc:description/>
  <dc:language>en-US</dc:language>
  <cp:lastModifiedBy>edina</cp:lastModifiedBy>
  <cp:revision>0</cp:revision>
  <dc:subject/>
  <dc:title>Problem identitete in zasebnosti v medijih</dc:title>
</cp:coreProperties>
</file>