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E2B-F3F5-4B45-90CD-77EC3FB0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05FD-7258-4733-AB8D-8B8BD5D0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AA8-6385-45A0-A77B-AAAD8D86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16E-BA55-4C31-AB1A-A7BD4F0E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4D60-CD0A-4DD3-9605-B9067AE3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F28A-C5BE-47EA-9B80-A81EDC41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2783-30FD-4F0D-8183-8026FFEE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ABC2-C746-4A98-B24D-20B6401C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B851-C7D3-4C24-8954-D2B11082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AB53-CF16-4EB0-BC45-A8B604D8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9E58-89BC-4B95-9EF0-F172DCAB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CD89-DDAE-407D-9722-3A8C85CC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5DA2-B0C1-417D-8CD8-9785574E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B8C9-3041-4205-94A7-9DB409E0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B676-1021-4B79-A7C5-E22AFCDB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2FB3-060C-4981-89F9-0FE9169F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9747-1068-4D8D-BE5E-F0C8588C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9095-18AE-43A8-8FE6-6FC95D7C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7542-7AE9-40F8-BE6A-902DFD96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DA3-B062-4688-9A80-0319E526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AC3-10AB-4A50-89D4-8FDD92EB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8CB9-308F-425A-8E76-CAC82591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46B-7452-4325-995E-6BFF9D57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3A6-7868-458C-B659-8E5180D6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lnTo>
                    <a:pt x="0" y="3587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27795F-2C89-4BF5-80A2-55F1F17289D7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lnTo>
                    <a:pt x="0" y="3587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57217EF-1E1D-4A6D-8C2E-1CE5F81C1A57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revir.si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94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edstavitev seminarske nalog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MS Gothic"/>
              </a:rPr>
              <a:t>Osnove multimedijev</a:t>
            </a:r>
            <a:br>
              <a:rPr sz="3200"/>
            </a:br>
            <a:r>
              <a:rPr b="0" i="1" lang="en-GB" sz="3000" spc="-1" strike="noStrike">
                <a:solidFill>
                  <a:srgbClr val="ffffff"/>
                </a:solidFill>
                <a:latin typeface="Arial"/>
                <a:ea typeface="MS Gothic"/>
              </a:rPr>
              <a:t>Mentor: dr. Peter Purg</a:t>
            </a:r>
            <a:br>
              <a:rPr sz="3000"/>
            </a:br>
            <a:r>
              <a:rPr b="0" i="1" lang="en-GB" sz="3000" spc="-1" strike="noStrike">
                <a:solidFill>
                  <a:srgbClr val="ffffff"/>
                </a:solidFill>
                <a:latin typeface="Arial"/>
                <a:ea typeface="MS Gothic"/>
              </a:rPr>
              <a:t>Avtor: Tatjana Polanc Kolander</a:t>
            </a:r>
            <a:br>
              <a:rPr sz="3000"/>
            </a:br>
            <a:br>
              <a:rPr sz="3000"/>
            </a:b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20. november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333440" cy="1181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Navigacija in struk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ea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linea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mpozit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erarhič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371484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34290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Oddelki multimedijskega produkcijskega proc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36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iskar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4800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uredništ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6400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vdiost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6400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deo- in avdioproduk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2819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rafično oblikov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0574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952880" y="3429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257800" y="1522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733920" cy="2427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imer portala E-revi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jektni pred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jne skup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žna strategija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erevir.si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886200" y="1600200"/>
            <a:ext cx="525780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34120" y="31240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Križi in težav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kip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lgi roki izve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gramir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p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stir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žurir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dgrad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886200" y="1752480"/>
            <a:ext cx="5029200" cy="4738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Uporabna vrednos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orabne vsebine (podatkovne ba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rog referenčnih avtorje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ektronsko opismenjevanje reg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lovno povezo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48320" y="2163600"/>
            <a:ext cx="3809880" cy="3749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rženje izdelk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981080" y="21337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94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dukcijski proces izdelave multimedijskega izdelka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2540160" cy="2527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Namen multimedijske produkc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redovanje izobraževalnih, poslovnih, razvedrilnih vsebin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redovanje preglednih vsebin multimedijsk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267080" y="4419720"/>
            <a:ext cx="1447920" cy="10666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Multimedijski element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5800" y="1828800"/>
            <a:ext cx="2359080" cy="1677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95280" y="4267080"/>
            <a:ext cx="1905120" cy="1866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12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sl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6248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zv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2819160" cy="1801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34120" y="3581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grafična animacij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46483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6483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T</a:t>
            </a:r>
            <a:r>
              <a:rPr b="0" lang="en-GB" sz="4400" spc="-1" strike="noStrike">
                <a:solidFill>
                  <a:srgbClr val="ffffff"/>
                </a:solidFill>
                <a:latin typeface="Showcard Gothic"/>
              </a:rPr>
              <a:t>e</a:t>
            </a:r>
            <a:r>
              <a:rPr b="0" lang="en-GB" sz="2400" spc="-1" strike="noStrike">
                <a:solidFill>
                  <a:srgbClr val="ffcc00"/>
                </a:solidFill>
                <a:latin typeface="Stencil"/>
              </a:rPr>
              <a:t>k</a:t>
            </a:r>
            <a:r>
              <a:rPr b="0" lang="en-GB" sz="2400" spc="-1" strike="noStrike">
                <a:solidFill>
                  <a:srgbClr val="ffffff"/>
                </a:solidFill>
                <a:latin typeface="Showcard Gothic"/>
              </a:rPr>
              <a:t>S</a:t>
            </a:r>
            <a:r>
              <a:rPr b="1" lang="en-GB" sz="4000" spc="-1" strike="noStrike">
                <a:solidFill>
                  <a:srgbClr val="ffcc00"/>
                </a:solidFill>
                <a:latin typeface="Footlight MT Light"/>
              </a:rPr>
              <a:t>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781680" y="4495680"/>
            <a:ext cx="1828800" cy="146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934320" y="60199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6019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Multimedijski produk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ltimedijs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aktiv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čmedijski (hypermed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čpovezavni (hyperli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produ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produ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16600" y="2133720"/>
            <a:ext cx="316368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 -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predprodukcij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2296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 -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produkcij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44704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 -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postprodukcij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44704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&amp;J</dc:creator>
  <dc:description/>
  <dc:language>en-US</dc:language>
  <cp:lastModifiedBy>T&amp;J</cp:lastModifiedBy>
  <cp:revision>0</cp:revision>
  <dc:subject/>
  <dc:title>PowerPoint Presentation</dc:title>
</cp:coreProperties>
</file>