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934-6C9D-4E66-8709-409AE175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FA7-80B3-4E7F-BB07-61DF1742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BCF-7F36-49FE-BF50-227EA435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611-6920-4882-9B22-242ED08E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FE8A-849F-4212-9809-F81FA62F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A59E-75F5-42DD-8A21-04FEA476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F9FB-6EB2-4B1E-A933-4FA1A7B1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D568-AB8B-4776-83FC-F5A0B15E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90E8-B3A2-43DE-BD4B-FCD90034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2A48-3A60-4245-A92B-8C18CAC1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11C7-EC75-482B-9B24-5FEB2B4F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BA2-2A03-4057-AA9B-963D4A6B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7F73-1595-45F8-93ED-8ABFE714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E464-015F-4978-B5E7-56AA0A1F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18E0-B722-41E0-A6D8-8D285CE4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7F51-E3EA-49DE-B6B1-8AAC2B6B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8922-37B0-418E-97C1-B80DFF05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406-482E-4594-B316-CE83BF0A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EF7-0E6C-4FE6-BCE6-6FA7F09C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A51-7232-4925-BEFE-F30353F2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B89-A232-4595-8B92-27B55F6C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89C-8493-46B9-8FC9-7397173B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3AC-B94C-4F24-8F56-AB6E3E01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BAF-AA14-45DC-AA99-411DFFB5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C859ED-0CE5-4E7F-8468-89593E58D1A1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39936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6F6996E-2904-436A-AF92-93F816561CF9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3delavnica.com/" TargetMode="External"/><Relationship Id="rId3" Type="http://schemas.openxmlformats.org/officeDocument/2006/relationships/hyperlink" Target="http://www.3delavnica.com/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83628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5790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uka Ž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jubljana, 20. 11.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7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Charles Emile Reynaud-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RAXINO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9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Eadweard James Muybridge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OPRAXI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4. Digitaln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5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k ustvarja na računalniku v digitalni obl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onuja nam možnost izražanja skozi sliko in zv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ožnost kombiniranja digitalne umetnosti z analognimi oblikam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področja digitaln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2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3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nožični med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glas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5. Razvoj računalniške grafik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0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se pojavijo prvi risal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3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Ivan Sutherland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napiše prvi risarski računalniški program, 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SKETCH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33640" y="20811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191120" cy="3406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257800" y="3276720"/>
            <a:ext cx="3733920" cy="34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380520"/>
            <a:ext cx="7769160" cy="70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ebruar 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5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Michael Noll, Georg Ness, Friede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Nake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rva razstava digitalne umetnosti na svetu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Generativna računalniška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onec šestdesetih v New York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AT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Eksperiments in art and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rvi poskusi računalniške animacije; brat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John in James Whit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9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skupin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SIGRAP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79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festival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RS ELECTRONICA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6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CENTER DIGITAL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85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M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5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odjetje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A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ustvari prvi računalniško animirani celovečerni film,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Toy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6. Digitalna umetnost v Slovenij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dward Zajec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4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KIBERK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XELPOIN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3delavnica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Domen Lomber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Birth of venus, avtor Domen Lombergar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86728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380844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Net art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ne razstavljene in dostopne izključno prek inter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Generativna umetnost</a:t>
            </a:r>
            <a:r>
              <a:rPr b="1" lang="en-GB" sz="2400" spc="-1" strike="noStrike" u="sng">
                <a:solidFill>
                  <a:srgbClr val="9933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toda za razvoj idej in iskanje novih rešitev na vseh področjih človekovega ustvarjanja</a:t>
            </a:r>
            <a:r>
              <a:rPr b="0" lang="en-GB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2520" y="1066680"/>
            <a:ext cx="380844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Machinima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rst, ki je tesno povezana z računalniškimi ig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Kaj je umetnost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2819520"/>
            <a:ext cx="77691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ejavnosti, katere namen je ustvarjanje del z estetsko vrednost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2. Vrst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asbe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i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edališ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odob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likarst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ipar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lesna umetnost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3. Kaj je namen umetnosti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6572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“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men umetnosti je catharsis, očiščenje, katerega doživi človek ob opazovanju umetniškega dela”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                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Aristot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Kaj je medij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2895120"/>
            <a:ext cx="776916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dij lahko opredelimo kot neke vrste naprave za prenos informaci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1. Mediji v umetnosti</a:t>
            </a:r>
            <a:r>
              <a:rPr b="0" lang="en-GB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iz katerega je izdelano umetniško de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katerega je umetnik uporabil za izražanje v ustvarjalnem proc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95280" y="3048120"/>
          <a:ext cx="723924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048120"/>
                    <a:ext cx="72392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1143000" y="3200400"/>
            <a:ext cx="7543800" cy="3429000"/>
            <a:chOff x="1143000" y="3200400"/>
            <a:chExt cx="7543800" cy="3429000"/>
          </a:xfrm>
        </p:grpSpPr>
        <p:grpSp>
          <p:nvGrpSpPr>
            <p:cNvPr id="104" name=""/>
            <p:cNvGrpSpPr/>
            <p:nvPr/>
          </p:nvGrpSpPr>
          <p:grpSpPr>
            <a:xfrm>
              <a:off x="1149480" y="3203640"/>
              <a:ext cx="7530840" cy="3422520"/>
              <a:chOff x="1149480" y="3203640"/>
              <a:chExt cx="7530840" cy="342252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149480" y="3203640"/>
                <a:ext cx="3765600" cy="347760"/>
                <a:chOff x="1149480" y="3203640"/>
                <a:chExt cx="3765600" cy="347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2049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umetni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149480" y="32036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915080" y="3203640"/>
                <a:ext cx="3765240" cy="347760"/>
                <a:chOff x="4915080" y="3203640"/>
                <a:chExt cx="3765240" cy="34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9705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medi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915080" y="32036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149480" y="3549600"/>
                <a:ext cx="3765600" cy="347760"/>
                <a:chOff x="1149480" y="3549600"/>
                <a:chExt cx="3765600" cy="34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2049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lik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149480" y="35496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915080" y="3549600"/>
                <a:ext cx="3765240" cy="347760"/>
                <a:chOff x="4915080" y="3549600"/>
                <a:chExt cx="3765240" cy="34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9705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barva, platn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915080" y="35496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149480" y="3897360"/>
                <a:ext cx="3765600" cy="446040"/>
                <a:chOff x="1149480" y="3897360"/>
                <a:chExt cx="3765600" cy="4460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2049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kip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149480" y="389736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915080" y="3897360"/>
                <a:ext cx="3765240" cy="446040"/>
                <a:chOff x="4915080" y="3897360"/>
                <a:chExt cx="3765240" cy="4460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9705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zlične vrste kamnin, lahko tudi les ali glin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15080" y="389736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149480" y="4343400"/>
                <a:ext cx="3765600" cy="446040"/>
                <a:chOff x="1149480" y="4343400"/>
                <a:chExt cx="3765600" cy="4460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2049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arhitek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149480" y="434340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915080" y="4343400"/>
                <a:ext cx="3765240" cy="446040"/>
                <a:chOff x="4915080" y="4343400"/>
                <a:chExt cx="3765240" cy="446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9705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zemlja, opeka,les, kamen beton, železobeton, razne kovine in stekl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915080" y="434340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149480" y="4791240"/>
                <a:ext cx="3765600" cy="446040"/>
                <a:chOff x="1149480" y="4791240"/>
                <a:chExt cx="3765600" cy="446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2049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graf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149480" y="479124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915080" y="4791240"/>
                <a:ext cx="3765240" cy="446040"/>
                <a:chOff x="4915080" y="4791240"/>
                <a:chExt cx="3765240" cy="446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9705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aparat; - analogni (filmski trak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                 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- digitalni (fotosenzorji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915080" y="479124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149480" y="5237280"/>
                <a:ext cx="3765600" cy="347400"/>
                <a:chOff x="1149480" y="5237280"/>
                <a:chExt cx="3765600" cy="34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2049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isatelj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149480" y="5237280"/>
                  <a:ext cx="376560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915080" y="5237280"/>
                <a:ext cx="3765240" cy="347400"/>
                <a:chOff x="4915080" y="5237280"/>
                <a:chExt cx="3765240" cy="347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9705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apir (knjiga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915080" y="5237280"/>
                  <a:ext cx="376524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149480" y="5584680"/>
                <a:ext cx="3765600" cy="347760"/>
                <a:chOff x="1149480" y="5584680"/>
                <a:chExt cx="3765600" cy="34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2049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eži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149480" y="558468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915080" y="5584680"/>
                <a:ext cx="3765240" cy="347760"/>
                <a:chOff x="4915080" y="5584680"/>
                <a:chExt cx="3765240" cy="34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9705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video kamera, filmski trak, DV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15080" y="558468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149480" y="5932440"/>
                <a:ext cx="3765600" cy="347760"/>
                <a:chOff x="1149480" y="5932440"/>
                <a:chExt cx="3765600" cy="34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2049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eni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149480" y="59324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915080" y="5932440"/>
                <a:ext cx="3765240" cy="347760"/>
                <a:chOff x="4915080" y="5932440"/>
                <a:chExt cx="3765240" cy="34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9705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ilo, C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915080" y="59324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149480" y="6278400"/>
                <a:ext cx="3765600" cy="347760"/>
                <a:chOff x="1149480" y="6278400"/>
                <a:chExt cx="3765600" cy="3477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2049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pletni oblikovale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49480" y="62784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915080" y="6278400"/>
                <a:ext cx="3765240" cy="347760"/>
                <a:chOff x="4915080" y="6278400"/>
                <a:chExt cx="3765240" cy="3477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9705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čunalnik, disk, sple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915080" y="62784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>
              <a:off x="1143000" y="3200400"/>
              <a:ext cx="7543800" cy="3429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69520" cy="48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ost, ki je bila ustvarjena s tehnologijo 20. stole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sprotje ali sodobni razvoj klasič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je v kakršnikoli povezavi s telekomunikacijami, množičnimi mediji in digitalnim načinom predstavitve nekega umetniškega izdel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3790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1. Medijska umetnost v splošnem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računalniš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igit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umetn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enera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formacijs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ak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net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o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2. Zgodovina medijsk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34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ET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4114800" cy="434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