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97F-2144-4589-99F9-4DA947A1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5783-9819-46B0-85D0-DCE60DB5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DA81-ED00-4AE0-8DE4-CCC32CA0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81C-0245-4DA3-B6B4-859EE003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6BB-CB27-4615-B386-AF904020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D863-409E-4D6D-B315-441E7E5A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BA2-1381-41AC-B7AA-1CC46211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D02-E8FE-4AFB-AE3C-2CCED5AF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38D7-32D0-4E84-9478-95C4529E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6F9-A1A7-401F-8980-3F494345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F9D-FB6E-45C4-AF7A-F23B9B45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482-9A3C-4685-95D6-E1C707D2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95B3-93A9-40AF-9408-945E48DA3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924280"/>
            <a:ext cx="713268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NI VIDIK PRIPRAVE GLASBENE KOMPOZICI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ANALOGNO PREDVAJAN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5157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Žiga No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49228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TVARJA SE Z ELEKTRONSKO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SIZER, SAMPLER, RAČUNALNIK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OVANA TUDI RAČUNALNIŠKA GLAS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RAZVOJEM PROGRAMOV LAHKO MANIPULIRA Z ZVO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USTVARJANJE SE UPORABLJAJO POSEBNI PROG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268280"/>
            <a:ext cx="640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D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ČETEK OB KONCU 70-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ZAČETKU 90-tih MANJ KVALITE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 KONCU 90-tih SE IZBOLJŠA, ZARA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PEŠENEGA RAZVOJA RAČUNAL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ANE BOLJ MELODIČNA IN DODE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DMEVNA LETNICA (1994) V SLOVEN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A TISTEGA Č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L COX, MARUSHA, LAURENT GAR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HOOLIGAN, KRAF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557360"/>
            <a:ext cx="806436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VRSTI ELEKTRONSKE GLAS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 HC, SPEEDCORE, HAPPY HC, GAB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TAREJŠI HC IZJEMNO RAZNOL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DINAMIČNA IN PREPROSTA STRUK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AZNOLIKI ZV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D 180 BPM NAVZG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PEED CORE DOSEGA HITROST 1200 B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NOVEJŠI HC, MONOTON, AGRESIVNEJŠI, NEGAT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557360"/>
            <a:ext cx="734544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PPY HC, KI JE NASPROTJE STAREJŠEGA 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EBUJE VISOKE TONE IN GLAS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ASOVI SPOMINJAJO NA OTROŠKE RIS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OTONOST OSTAJA,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BBER; RAZVOJ IZ HC POD VPLIVOM DARK ME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WER NOISE; KOMBINACIJA HC IN BREAK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AT NI KONSTANTEN, AMPAK LOML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SEGA HITROST 20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49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700280"/>
            <a:ext cx="7272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HITROST OD 120 – 140 B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FUNKY, HARD, VOOD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AZVOJ SCHRANZA (11.september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DARK IN VSEBUJE AGRES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40 – 16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1125360"/>
            <a:ext cx="61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ENA STAREJŠIH ZVR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NASTALA POD VPLIVOM DISKO GLAS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MELODIČNA, VSEBUJE DOSTI VOKA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80 – 12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HARD, FUNKY, PROG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221000"/>
            <a:ext cx="864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ID = STAR STIL, TEMELJI NA RAČUNALNIŠ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TIZIRANIH ZVO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= TEMELJI NA ZVOKIH TOL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Y = POČASNEJŠI, BOGATI ZVOKI IN NESITETIČNI, NENARA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VE = MELODIČEN, USKLAJEVANJE ZVOK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2349360"/>
            <a:ext cx="6985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K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ESTAVA KOMADA (SEKVENCA, SOUNDI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8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OFONSKA PLOŠČ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989000"/>
            <a:ext cx="6193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OGNI ZVOČNI SNEMALNI MED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VEN VRTEČI DISK, S STALNO HITROST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RALNA POT, KJER IGLA D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LADUJOČ MEDIJ CELIH 70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14972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33 1/3 RPM LONG – PLAYING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45 RPM EXTENDED – PLAYING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2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PM = REVOLUTION PER MINUTE (ROTACIJA NA MIN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76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ZALNIK PLOŠ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2276640"/>
            <a:ext cx="705636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 PRIBLIŽNO 110 LET, SNOVAN NA GRAMOF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DOMETI EDISONOV CIL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0 ELEKTRONSKI SIGNAL ZAMENJA MEHANSK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USTIČNA APLIKACIJA POSTANE BOLJ NATANČ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DINAMIČNO RAVNOV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844640"/>
            <a:ext cx="792000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DOBI SE Z PRETVORBO ANALOGNEGA SIGNALA ALI 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KTRON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RETEN IN KVANTIZ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ČNO PREDSTAVLJA NEZVEZNO, DISKRET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C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65534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73360"/>
            <a:ext cx="835344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ZDELITEV V DVE KATEGOR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NEKATERI SO DISKERTNI IN KVANTI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NEKATERI OPIŠEJO POJAVE, KI SO NEPRES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ORABA SE JE ZELO POVEČ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ČINA HIŠNIH NAPRAV ZASNOVANA Z DIGITALNIM SIGN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STAVLJALJEN JE BINA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VANTIZACIJA MERJENA V BI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1916280"/>
            <a:ext cx="6985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ANČNA PREDSTAV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MPLEKSNO PROCES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NOS BREZ NA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TIVNO NIZK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692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IZACIJA ZV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852640"/>
            <a:ext cx="7705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OSTAVEN PRIMER PROCESA DIGITALIZACIJE IN VZOR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KA V TREH FAZA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VZORČ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KVANT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916280"/>
            <a:ext cx="828036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ZVOK, KI JE POSNET IN SHRANJEN V DIGITALNEM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N JE LAHKO NA CD-ju, MINIDISC, DAT TAPE, 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ČUNALNIKU V WAV ALI MP3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OČNE PERSPEK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TEREO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URROUND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OLBY DIGITAL 5.1. IN 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1557360"/>
            <a:ext cx="6697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W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PODATKOVNA DATOTEKA ZA RAČUNALNIŠ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UPOR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MICROSOFT IN IBM STANDAR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RAZLIČICA RIFF BI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OMEJEN NA DATOTEKE MANJŠE OD 2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CD-ji GA NE UPORABLJ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557360"/>
            <a:ext cx="6481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MP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IGITALNO AVDIO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IZGUBEN STISKAL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UPORABLJENE ZA DOWNLOAD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 GLASBE NA RAČUNALNI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KODIRNIK IN NE DATOTEČ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557360"/>
            <a:ext cx="770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ŠČENKA (CD – COMPACT DI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ČNI DISK ZA SHRANJEVANJE DIGITALNIH PODAT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NI PLAYBACK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KOMERCIALNO AVDIO PREDVAJANJE IN SNEM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 PREMER 1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 MM ZADRŽI 74 MIN AVDIA, 80 MM PA 20 MIN AV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0:10:58Z</dcterms:created>
  <dc:creator>Ziga</dc:creator>
  <dc:description/>
  <dc:language>en-US</dc:language>
  <cp:lastModifiedBy>Ziga</cp:lastModifiedBy>
  <dcterms:modified xsi:type="dcterms:W3CDTF">2005-12-14T23:42:37Z</dcterms:modified>
  <cp:revision>25</cp:revision>
  <dc:subject/>
  <dc:title>Diapozitiv 1</dc:title>
</cp:coreProperties>
</file>