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EB493-A3D7-4FA5-B2A0-F320D37FA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09AAE-8816-4062-A588-13C91ED4C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F40C1-CFF3-4CCA-A492-A3987586A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C3ACE-ECB0-487C-B4D3-357AF9AED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08CA9-0C03-44AC-9DC0-14F943D0A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5467D-3774-46D3-8EBC-A6A361965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AB7A0-D4A1-4275-88CA-63B12151F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F6123-17BD-4569-A8E0-34A318544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336D0-D3AE-48E0-AA9B-D56281EE6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4235F-E2C0-4D0C-A151-2BAE17A70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8C7DE-0059-43D9-BE2B-680CE9A4E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622B0-16CB-4829-A397-24B6B96F8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305E3-ED9E-41C8-8A29-F62265EB3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91E24-A8C7-43F0-A57A-304F20DA6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8A8C8-975D-4F87-8252-3F21E24E4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C2FA4-95EE-4783-AFAB-76FBBDB01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713D7-A9EC-4074-B742-9BF2640D5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4E0B5-AD4F-4496-A17C-02A8F92DF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E3841-8132-4B90-A344-6F6FF58AE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1271E-A76A-408D-A30C-505A6BBEA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EC4B5-4ADB-4F02-BE2A-98D59D46F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C6FCA-C4EB-4B99-B76F-EA3552714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7E95-3817-40A1-8A2E-E2C01F80D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D7B4-D2A5-46B3-9739-BE56E7DE1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C2B32-D55A-4ED8-9BFB-B2698CF6089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dt" idx="4"/>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270A632-35B4-41C8-B031-1C474208F47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133360"/>
            <a:ext cx="7772400" cy="23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500" spc="-1" strike="noStrike">
                <a:solidFill>
                  <a:srgbClr val="000000"/>
                </a:solidFill>
                <a:latin typeface="Copperplate Gothic Light"/>
              </a:rPr>
              <a:t>Pomen multimedijev  kot sovpada</a:t>
            </a:r>
            <a:br>
              <a:rPr sz="3500"/>
            </a:br>
            <a:r>
              <a:rPr b="0" lang="en-GB" sz="3500" spc="-1" strike="noStrike">
                <a:solidFill>
                  <a:srgbClr val="000000"/>
                </a:solidFill>
                <a:latin typeface="Copperplate Gothic Light"/>
              </a:rPr>
              <a:t>tehnologije in medijskih izrazov</a:t>
            </a:r>
            <a:endParaRPr b="1" lang="en-US" sz="35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341360"/>
            <a:ext cx="8229600" cy="45259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ISKANI MEDIJ</a:t>
            </a: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asopis v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vi, ki so se pojavili na internetu(Financial Times, New York Time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lovenski časniki na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i časopisi</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07560"/>
            <a:ext cx="8229600" cy="579276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ELEVIZIJSKI MEDIJ</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ske hiše, ki imajo urejene spletne strani(CNN,BBC,..in med slovenskimi RT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kstovni zapi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avdio in video prispevk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prema za kakovostno predvajanje avdiovizualnih 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000"/>
                </a:solidFill>
                <a:latin typeface="Copperplate Gothic Light"/>
              </a:rPr>
              <a:t>   </a:t>
            </a:r>
            <a:r>
              <a:rPr b="1" lang="en-GB" sz="2200" spc="-1" strike="noStrike">
                <a:solidFill>
                  <a:srgbClr val="000000"/>
                </a:solidFill>
                <a:latin typeface="Copperplate Gothic Light"/>
              </a:rPr>
              <a:t>Telefonija oz. oblike telekomunikacije</a:t>
            </a:r>
            <a:endParaRPr b="1" lang="en-US" sz="2200" spc="-1" strike="noStrike">
              <a:solidFill>
                <a:srgbClr val="000000"/>
              </a:solidFill>
              <a:latin typeface="Arial Black"/>
            </a:endParaRPr>
          </a:p>
        </p:txBody>
      </p:sp>
      <p:sp>
        <p:nvSpPr>
          <p:cNvPr id="115" name="PlaceHolder 2"/>
          <p:cNvSpPr>
            <a:spLocks noGrp="1"/>
          </p:cNvSpPr>
          <p:nvPr>
            <p:ph/>
          </p:nvPr>
        </p:nvSpPr>
        <p:spPr>
          <a:xfrm>
            <a:off x="914400" y="1916280"/>
            <a:ext cx="8229600" cy="506880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Na začetku je bila e-pošta, vseh oblik internetnega komuniciranja.Nato so v 80-ih nastali programi, ki so omogočali digitalni pisni klepet in bili videti kot nekakšna e-pošta v ži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 prvimi programi za komunikacijo preko interneta je IRC.Nastal je v času, ko je bila večina zasebnih uporabnikov priključena le občasno, zato so se pogosto prijatelji poklicali kdaj in na katerem kanalu se “dobijo”.Še danes je veliko uporabnikov, ki preživijo ure na IRC-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grami za internetno komunikacij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CQ,AIM,NetMeeting,MSN Messenger,Windows Messenger,Yahoo!Messenger,Google Talk</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kype,Gizmo,Jabber,Trillian,…</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blike 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99640" y="1557000"/>
            <a:ext cx="4302360" cy="26146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Oblike komunikacije</a:t>
            </a:r>
            <a:r>
              <a:rPr b="0" lang="en-GB" sz="1800" spc="-1" strike="noStrike">
                <a:solidFill>
                  <a:srgbClr val="000000"/>
                </a:solidFill>
                <a:latin typeface="Copperplate Gothic Light"/>
              </a:rPr>
              <a:t>:</a:t>
            </a:r>
            <a:endParaRPr b="0" lang="en-US" sz="18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1413000"/>
            <a:ext cx="8229600" cy="57211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INTERAKTIVNI KIOSKI</a:t>
            </a:r>
            <a:endParaRPr b="0" lang="en-US" sz="22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i kioski so namenjeni javni uporabi. Dotik na občutljivi zaslon omogoča hiter dostop do najrazličnejših informacij ter opravljanje storitev, kot 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pisovanje raznih podatko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stop do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šiljanje e-pošt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ranje prek protokola IP</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 in avdiokonferenčne povezav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trgovin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bančništv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šne so prednosti kiosk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Kazalo</a:t>
            </a:r>
            <a:endParaRPr b="1" lang="en-US" sz="4500" spc="-1" strike="noStrike">
              <a:solidFill>
                <a:srgbClr val="000000"/>
              </a:solidFill>
              <a:latin typeface="Arial Black"/>
            </a:endParaRPr>
          </a:p>
        </p:txBody>
      </p:sp>
      <p:sp>
        <p:nvSpPr>
          <p:cNvPr id="100" name="PlaceHolder 2"/>
          <p:cNvSpPr>
            <a:spLocks noGrp="1"/>
          </p:cNvSpPr>
          <p:nvPr>
            <p:ph/>
          </p:nvPr>
        </p:nvSpPr>
        <p:spPr>
          <a:xfrm>
            <a:off x="914400" y="1773360"/>
            <a:ext cx="8229600" cy="6555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kabelsk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 kot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osledica pojava interneta:tv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radio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isk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elefonija oz. telekomunikac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i info-kioski</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Televizija</a:t>
            </a:r>
            <a:r>
              <a:rPr b="1" lang="en-GB" sz="4400" spc="-1" strike="noStrike">
                <a:solidFill>
                  <a:srgbClr val="000000"/>
                </a:solidFill>
                <a:latin typeface="Arial Black"/>
              </a:rPr>
              <a:t> </a:t>
            </a:r>
            <a:endParaRPr b="1" lang="en-US" sz="4400" spc="-1" strike="noStrike">
              <a:solidFill>
                <a:srgbClr val="000000"/>
              </a:solidFill>
              <a:latin typeface="Arial Black"/>
            </a:endParaRPr>
          </a:p>
        </p:txBody>
      </p:sp>
      <p:sp>
        <p:nvSpPr>
          <p:cNvPr id="102" name="PlaceHolder 2"/>
          <p:cNvSpPr>
            <a:spLocks noGrp="1"/>
          </p:cNvSpPr>
          <p:nvPr>
            <p:ph/>
          </p:nvPr>
        </p:nvSpPr>
        <p:spPr>
          <a:xfrm>
            <a:off x="781200" y="1844280"/>
            <a:ext cx="8362800" cy="4530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interaktiv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kab.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333360"/>
            <a:ext cx="8388360" cy="633888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je že desetletja uveljavljen elektronski medij, ki se stalno razvija, kljub temu pa še danes gledalcu omogoča pasivno spremljanje TV programov.S stališča gledalca so pomembnejše spremembe, ki so se uveljavljavile tekom razvoja televizi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rnobela televizija oz. začetek televizije kot novega avdiovizuelnega med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barvna televizija, ki bistveno izboljša kvaliteto slikovnega dela televizijskih</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tekst kot dodatna informacija vključena v osnovno televizijsko vsebin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uveljavitev videorekorderje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datni mejniki v razvoju televizije, ki pa so le posredno vplivali na gledalc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ožnost satelitskega in kabelskega sprejema TV signal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igital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549360"/>
            <a:ext cx="8229600" cy="586584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pa naj bo digitalna, analogna, satelitska ali kabelska, je še vedno naprava, ki omogoča gledalcu le sprejemanje informacij po vnaprej znanem sporedu(realnem čas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Gledalec nima možnosti posredovanja povratnih informacij. Interaktivna televizija je povsem drug koncept televizije in omogoča uporabniku, da si sam izber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d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o si želi ogledat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 prihodom interaktivne televizije je gledalec postal aktiven uporabnik.</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560" y="1484280"/>
            <a:ext cx="8007480" cy="41925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Ločimo štiri kategorije interaktivne televiz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deo na zahtevo</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Napred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rtualni program</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Sodelovan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0" lang="en-GB" sz="4400" spc="-1" strike="noStrike">
                <a:solidFill>
                  <a:srgbClr val="000000"/>
                </a:solidFill>
                <a:latin typeface="Copperplate Gothic Light"/>
              </a:rPr>
              <a:t>Kabelska</a:t>
            </a:r>
            <a:r>
              <a:rPr b="1" lang="en-GB" sz="4400" spc="-1" strike="noStrike">
                <a:solidFill>
                  <a:srgbClr val="000000"/>
                </a:solidFill>
                <a:latin typeface="Copperplate Gothic Light"/>
              </a:rPr>
              <a:t> </a:t>
            </a:r>
            <a:r>
              <a:rPr b="0" lang="en-GB" sz="4400" spc="-1" strike="noStrike">
                <a:solidFill>
                  <a:srgbClr val="000000"/>
                </a:solidFill>
                <a:latin typeface="Copperplate Gothic Light"/>
              </a:rPr>
              <a:t>Tv</a:t>
            </a:r>
            <a:endParaRPr b="1" lang="en-US" sz="44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belska TV..CA-TV(Community Antenna Television) se je rodila v ZDA(Penslivanija), v poznih 40-letih.V tem čau je obstajalo le nekaj televizijskih postaj, te pa so oddajale predvsem v večjih mestih.V začetkih 50-letih je bila televizija relativno nov pojav.Kljub temu je število sprejemnikov raslo in s številom odjemalcev naraščalo tudi število TV anten na strehah prodajaln</a:t>
            </a:r>
            <a:r>
              <a:rPr b="0" lang="en-GB" sz="1500" spc="-1" strike="noStrike">
                <a:solidFill>
                  <a:srgbClr val="000000"/>
                </a:solidFill>
                <a:latin typeface="Copperplate Gothic Light"/>
              </a:rPr>
              <a: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1" lang="en-GB" sz="4400" spc="-1" strike="noStrike">
                <a:solidFill>
                  <a:srgbClr val="000000"/>
                </a:solidFill>
                <a:latin typeface="Copperplate Gothic Light"/>
              </a:rPr>
              <a:t>Internet</a:t>
            </a:r>
            <a:endParaRPr b="1" lang="en-US" sz="4400" spc="-1" strike="noStrike">
              <a:solidFill>
                <a:srgbClr val="000000"/>
              </a:solidFill>
              <a:latin typeface="Arial Black"/>
            </a:endParaRPr>
          </a:p>
        </p:txBody>
      </p:sp>
      <p:sp>
        <p:nvSpPr>
          <p:cNvPr id="109" name="PlaceHolder 2"/>
          <p:cNvSpPr>
            <a:spLocks noGrp="1"/>
          </p:cNvSpPr>
          <p:nvPr>
            <p:ph/>
          </p:nvPr>
        </p:nvSpPr>
        <p:spPr>
          <a:xfrm>
            <a:off x="914400" y="1844280"/>
            <a:ext cx="8229600" cy="453708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e je radio potreboval 38 let, da se je razširil med 50 milijonov poslušalcev in televizija 13 let(kabelska 10 let), je razvoj interneta potreboval le 6 let za 50 milijonov uporabnikov.</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iji doživlajjo veliko metamorfozo, ki je bila napovedana že pred leti. Tiskani mediji so namreč v internetovski izdajah bogatijo z zvokom in gibljivo sliko, radijski in televizijski medij pa širita področje “oddajanja”.Predvsem pa vsi mediji, ki izkoriščajo omrežne prednosti ,odkrivajo najpomebnejšo prednost interneta oz. svetovnega spleta- interaktivno komunikacijo s svojimi “bralci,gledalci in poslušalci”.</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sledica pojava internet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isk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V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ja oz. tele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Mediji na internetu</a:t>
            </a:r>
            <a:endParaRPr b="1" lang="en-US" sz="4400" spc="-1" strike="noStrike">
              <a:solidFill>
                <a:srgbClr val="000000"/>
              </a:solidFill>
              <a:latin typeface="Arial Black"/>
            </a:endParaRPr>
          </a:p>
        </p:txBody>
      </p:sp>
      <p:sp>
        <p:nvSpPr>
          <p:cNvPr id="111" name="PlaceHolder 2"/>
          <p:cNvSpPr>
            <a:spLocks noGrp="1"/>
          </p:cNvSpPr>
          <p:nvPr>
            <p:ph/>
          </p:nvPr>
        </p:nvSpPr>
        <p:spPr>
          <a:xfrm>
            <a:off x="826560" y="1915920"/>
            <a:ext cx="8007480" cy="41907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RADIJSKI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jski sprejemniki so že dolgo stalni del opreme različnih delovnih mes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v internetu lahko poleg zvoka ponudi poslušalcu na zaslonu informacijo o naslovu in izvajalcu skladb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daja plošč prek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ednost interneta izkoriščajo manj znane radijske posta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e radijske postaje(Imagine Radio,Rain Radi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ka</dc:creator>
  <dc:description/>
  <dc:language>en-US</dc:language>
  <cp:lastModifiedBy>Ivanka</cp:lastModifiedBy>
  <cp:revision>0</cp:revision>
  <dc:subject/>
  <dc:title>Pomen multimedijev kot sovpada tehnologije in medijskih izrazov</dc:title>
</cp:coreProperties>
</file>