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1051-2ECE-4B1C-BAB3-8E7011AD3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4E31-B5E0-46FB-8B4B-5CFC07D0F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82A6-7D2C-4B1F-8772-61A83A103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EB4B-B836-4407-915C-D7363A2F1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A987-7738-4D5A-8A6A-8E109EBB9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AC3A-D84D-4FB6-A3F5-C1CE02895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0DE2-B6E7-4D3D-BF16-FAD0DBE59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DB21-033F-4565-B81F-FB01B8B72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733A-1B64-4B79-A24A-9DAB0299D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745D-DA97-4B87-943C-A8B82660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F186-DBA1-4452-BBB9-88B6B0B6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55D8-E416-483E-8709-FDD9E380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D4600-2501-46C6-8FF0-C3C69F1329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00000" y="2924280"/>
            <a:ext cx="7132680" cy="84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IGITALNI VIDIK PRIPRAVE GLASBENE KOMPOZICIJ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N ANALOGNO PREDVAJANJ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5292720" y="515772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Žiga Nov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50" autoRev="1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" dur="250" autoRev="1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" dur="250" autoRev="1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500" autoRev="1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1" dur="500" autoRev="1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2" dur="500" autoRev="1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54936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2492280"/>
            <a:ext cx="78487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TVARJA SE Z ELEKTRONSKO OPRE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TESIZER, SAMPLER, RAČUNALNIK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ENOVANA TUDI RAČUNALNIŠKA GLAS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 RAZVOJEM PROGRAMOV LAHKO MANIPULIRA Z ZVOK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A USTVARJANJE SE UPORABLJAJO POSEBNI PROGR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54936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47640" y="1268280"/>
            <a:ext cx="640908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GODOV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AČETEK OB KONCU 70-t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 ZAČETKU 90-tih MANJ KVALITET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 KONCU 90-tih SE IZBOLJŠA, ZARA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PEŠENEGA RAZVOJA RAČUNALNIK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TANE BOLJ MELODIČNA IN DODEL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DMEVNA LETNICA (1994) V SLOVENI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ENA TISTEGA ČA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L COX, MARUSHA, LAURENT GARN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HOOLIGAN, KRAFTWE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54936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1280" y="1557360"/>
            <a:ext cx="8064360" cy="37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ZVRSTI ELEKTRONSKE GLAS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 HC, SPEEDCORE, HAPPY HC, GABB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STAREJŠI HC IZJEMNO RAZNOLI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DINAMIČNA IN PREPROSTA STRUK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RAZNOLIKI ZVO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OD 180 BPM NAVZG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SPEED CORE DOSEGA HITROST 1200 BP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NOVEJŠI HC, MONOTON, AGRESIVNEJŠI, NEGATIV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54936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258920" y="1557360"/>
            <a:ext cx="7345440" cy="37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APPY HC, KI JE NASPROTJE STAREJŠEGA H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SEBUJE VISOKE TONE IN GLAS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LASOVI SPOMINJAJO NA OTROŠKE RISAN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NOTONOST OSTAJA, KONSTANTEN B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ABBER; RAZVOJ IZ HC POD VPLIVOM DARK MET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WER NOISE; KOMBINACIJA HC IN BREAKB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EAT NI KONSTANTEN, AMPAK LOMLJ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SEGA HITROST 200 B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54936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87280" y="1700280"/>
            <a:ext cx="727236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CH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KONSTANTEN B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HITROST OD 120 – 140 BP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ACID, TRIBAL, FUNKY, HARD, VOOD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RAZVOJ SCHRANZA (11.september 20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JE DARK IN VSEBUJE AGRESI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140 – 160 B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9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2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5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8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1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4" dur="2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7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549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71640" y="1125360"/>
            <a:ext cx="6193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ENA STAREJŠIH ZVR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NASTALA POD VPLIVOM DISKO GLAS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MELODIČNA, VSEBUJE DOSTI VOKAL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80 – 120 B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ACID, TRIBAL, HARD, FUNKY, PROGRES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4221000"/>
            <a:ext cx="8640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ID = STAR STIL, TEMELJI NA RAČUNALNIŠK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TETIZIRANIH ZVOK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IBAL = TEMELJI NA ZVOKIH TOLK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NKY = POČASNEJŠI, BOGATI ZVOKI IN NESITETIČNI, NENARAV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GRESSIVE = MELODIČEN, USKLAJEVANJE ZVOKO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16000" y="2349360"/>
            <a:ext cx="69850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D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DUKCIJ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SESTAVA KOMADA (SEKVENCA, SOUNDI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55640" y="83664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AMOFONSKA PLOŠČ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11280" y="1989000"/>
            <a:ext cx="6193080" cy="20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ALOGNI ZVOČNI SNEMALNI MED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VEN VRTEČI DISK, S STALNO HITROST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IRALNA POT, KJER IGLA DR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VLADUJOČ MEDIJ CELIH 70 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4149720"/>
            <a:ext cx="7201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12’’ (30 CM) 33 1/3 RPM LONG – PLAYING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12’’ (30 CM) 45 RPM EXTENDED – PLAYING SI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60213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PM = REVOLUTION PER MINUTE (ROTACIJA NA MINU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26920" y="7650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ZALNIK PLOŠ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63640" y="2276640"/>
            <a:ext cx="7056360" cy="24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R PRIBLIŽNO 110 LET, SNOVAN NA GRAMOFO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DOMETI EDISONOV CILI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920 ELEKTRONSKI SIGNAL ZAMENJA MEHANSKE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KUSTIČNA APLIKACIJA POSTANE BOLJ NATANČ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 DINAMIČNO RAVNOVES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4360" y="692280"/>
            <a:ext cx="45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SIG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1844640"/>
            <a:ext cx="7920000" cy="20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DOBI SE Z PRETVORBO ANALOGNEGA SIGNALA ALI I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EKTRON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KRETEN IN KVANTIZI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AFIČNO PREDSTAVLJA NEZVEZNO, DISKRET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NKCI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187280" y="4724280"/>
            <a:ext cx="655344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84360" y="692280"/>
            <a:ext cx="45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SIG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1773360"/>
            <a:ext cx="8353440" cy="41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ZDELITEV V DVE KATEGORI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 NEKATERI SO DISKERTNI IN KVANTIZIR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 NEKATERI OPIŠEJO POJAVE, KI SO NEPREST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ORABA SE JE ZELO POVEČ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ČINA HIŠNIH NAPRAV ZASNOVANA Z DIGITALNIM SIGNA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DSTAVLJALJEN JE BINA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VANTIZACIJA MERJENA V BIT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84360" y="692280"/>
            <a:ext cx="45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SIG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32000" y="1916280"/>
            <a:ext cx="69850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D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TANČNA PREDSTAVIT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RANJEV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OMPLEKSNO PROCESIR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NOS BREZ NAP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LATIVNO NIZKA C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84360" y="69228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IZACIJA ZVO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00000" y="2852640"/>
            <a:ext cx="77058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OSTAVEN PRIMER PROCESA DIGITALIZACIJE IN VZORČE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TEKA V TREH FAZA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 VZORČE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 KVANTIZ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. KODIR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5640" y="54936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AV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1916280"/>
            <a:ext cx="8280360" cy="41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E ZVOK, KI JE POSNET IN SHRANJEN V DIGITALNEM FORMA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RANJEN JE LAHKO NA CD-ju, MINIDISC, DAT TAPE, 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ČUNALNIKU V WAV ALI MP3 FORMA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VOČNE PERSPEKTI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STEREO ZV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SURROUND ZV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DOLBY DIGITAL 5.1. IN 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5640" y="54936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AV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403280" y="1557360"/>
            <a:ext cx="66978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FORM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WA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AVDIO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PODATKOVNA DATOTEKA ZA RAČUNALNIŠ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UPORA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MICROSOFT IN IBM STANDARD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RAZLIČICA RIFF BI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OMEJEN NA DATOTEKE MANJŠE OD 2 G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AVDIO CD-ji GA NE UPORABLJ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55640" y="54936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AV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19280" y="1557360"/>
            <a:ext cx="64818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 MP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DIGITALNO AVDIO KODIR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IZGUBEN STISKALNI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UPORABLJENE ZA DOWNLOADE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RANJEVANJE GLASBE NA RAČUNALNIK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JE KODIRNIK IN NE DATOTEČNI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55640" y="54936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AV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42920" y="1557360"/>
            <a:ext cx="77058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GOŠČENKA (CD – COMPACT DIS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TIČNI DISK ZA SHRANJEVANJE DIGITALNIH PODATK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NDARDNI PLAYBACK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A KOMERCIALNO AVDIO PREDVAJANJE IN SNEM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NDARD PREMER 12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20 MM ZADRŽI 74 MIN AVDIA, 80 MM PA 20 MIN AV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4T20:10:58Z</dcterms:created>
  <dc:creator>Ziga</dc:creator>
  <dc:description/>
  <dc:language>en-US</dc:language>
  <cp:lastModifiedBy>Ziga</cp:lastModifiedBy>
  <dcterms:modified xsi:type="dcterms:W3CDTF">2005-12-14T23:42:37Z</dcterms:modified>
  <cp:revision>25</cp:revision>
  <dc:subject/>
  <dc:title>Diapozitiv 1</dc:title>
</cp:coreProperties>
</file>