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7CFF-1B4F-4B9A-890D-70F86F34E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B338-89B5-4411-95DF-9FF1820E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1793-5E2A-4DED-868F-C30E45C0E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3887-086B-448E-B0CA-CB39839F2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668C-248A-4BE1-9B39-5EEA50C7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56DA-0358-4D04-BC02-05784628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1AF2-4DFF-4579-A58B-B89BE33B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AB5C-748C-4DA9-841C-9270050A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B6E4-89B6-4205-9676-A8DC007A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4A42-AE5E-42BD-87D2-B4F43232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F5A7-2DF0-4313-B2CE-A8066986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2449-FCC8-4F5F-BF89-5FD4D3A4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41DF-000C-4CB6-91D8-2122E99B0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2924280"/>
            <a:ext cx="713268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GITALNI VIDIK PRIPRAVE GLASBENE KOMPOZICIJ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ANALOGNO PREDVAJANJ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292720" y="515772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Žiga Nov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549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2492280"/>
            <a:ext cx="7848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TVARJA SE Z ELEKTRONSKO OPR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TESIZER, SAMPLER, RAČUNALNIK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ENOVANA TUDI RAČUNALNIŠKA GLAS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 RAZVOJEM PROGRAMOV LAHKO MANIPULIRA Z ZVOK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 USTVARJANJE SE UPORABLJAJO POSEBNI PROGR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549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1268280"/>
            <a:ext cx="64090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ODOV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ČETEK OB KONCU 70-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ZAČETKU 90-tih MANJ KVALITET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 KONCU 90-tih SE IZBOLJŠA, ZARA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PEŠENEGA RAZVOJA RAČUNALNI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ANE BOLJ MELODIČNA IN DODEL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DMEVNA LETNICA (1994) V SLOVEN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ENA TISTEGA Č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L COX, MARUSHA, LAURENT GARN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HOOLIGAN, KRAFTW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549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557360"/>
            <a:ext cx="8064360" cy="37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ZVRSTI ELEKTRONSKE GLAS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 HC, SPEEDCORE, HAPPY HC, GABB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STAREJŠI HC IZJEMNO RAZNOL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DINAMIČNA IN PREPROSTA STRUK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RAZNOLIKI ZVO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OD 180 BPM NAVZG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SPEED CORE DOSEGA HITROST 1200 B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NOVEJŠI HC, MONOTON, AGRESIVNEJŠI, NEGATI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49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1557360"/>
            <a:ext cx="734544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PPY HC, KI JE NASPROTJE STAREJŠEGA H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SEBUJE VISOKE TONE IN GLAS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ASOVI SPOMINJAJO NA OTROŠKE RISA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OTONOST OSTAJA, KONSTANTEN 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BBER; RAZVOJ IZ HC POD VPLIVOM DARK MET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WER NOISE; KOMBINACIJA HC IN BREAK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AT NI KONSTANTEN, AMPAK LOMLJ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SEGA HITROST 20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54936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1700280"/>
            <a:ext cx="72723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KONSTANTEN 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HITROST OD 120 – 140 BP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CID, TRIBAL, FUNKY, HARD, VOOD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RAZVOJ SCHRANZA (11.september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JE DARK IN VSEBUJE AGRES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40 – 16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9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2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1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4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7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549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1640" y="1125360"/>
            <a:ext cx="6193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ENA STAREJŠIH ZVR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NASTALA POD VPLIVOM DISKO GLAS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MELODIČNA, VSEBUJE DOSTI VOKA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80 – 12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CID, TRIBAL, HARD, FUNKY, PROGRE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4221000"/>
            <a:ext cx="8640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ID = STAR STIL, TEMELJI NA RAČUNALNIŠK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TETIZIRANIH ZVOK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BAL = TEMELJI NA ZVOKIH TOL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KY = POČASNEJŠI, BOGATI ZVOKI IN NESITETIČNI, NENARAV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ESSIVE = MELODIČEN, USKLAJEVANJE ZVOK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2349360"/>
            <a:ext cx="6985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KCI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SESTAVA KOMADA (SEKVENCA, SOUNDI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836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MOFONSKA PLOŠČ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1989000"/>
            <a:ext cx="619308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OGNI ZVOČNI SNEMALNI MED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VEN VRTEČI DISK, S STALNO HITROST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IRALNA POT, KJER IGLA DR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VLADUJOČ MEDIJ CELIH 70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149720"/>
            <a:ext cx="720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2’’ (30 CM) 33 1/3 RPM LONG – PLAYING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2’’ (30 CM) 45 RPM EXTENDED – PLAYING SI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021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PM = REVOLUTION PER MINUTE (ROTACIJA NA MINU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7650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ZALNIK PLOŠ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3640" y="2276640"/>
            <a:ext cx="705636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 PRIBLIŽNO 110 LET, SNOVAN NA GRAMOF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DOMETI EDISONOV CIL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20 ELEKTRONSKI SIGNAL ZAMENJA MEHANSK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KUSTIČNA APLIKACIJA POSTANE BOLJ NATANČ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DINAMIČNO RAVNOV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844640"/>
            <a:ext cx="792000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DOBI SE Z PRETVORBO ANALOGNEGA SIGNALA ALI 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KTRON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KRETEN IN KVANTIZ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ČNO PREDSTAVLJA NEZVEZNO, DISKRET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KC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87280" y="4724280"/>
            <a:ext cx="65534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773360"/>
            <a:ext cx="835344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ZDELITEV V DVE KATEGOR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NEKATERI SO DISKERTNI IN KVANTIZIR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NEKATERI OPIŠEJO POJAVE, KI SO NEPREST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ORABA SE JE ZELO POVEČ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ČINA HIŠNIH NAPRAV ZASNOVANA Z DIGITALNIM SIGN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STAVLJALJEN JE BINA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VANTIZACIJA MERJENA V BI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1916280"/>
            <a:ext cx="6985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ANČNA PREDSTAVI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OMPLEKSNO PROCES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NOS BREZ NAP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LATIVNO NIZK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692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IZACIJA ZVO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2852640"/>
            <a:ext cx="7705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OSTAVEN PRIMER PROCESA DIGITALIZACIJE IN VZORČ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TEKA V TREH FAZA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VZORČE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KVANT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KOD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916280"/>
            <a:ext cx="828036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 ZVOK, KI JE POSNET IN SHRANJEN V DIGITALNEM FORM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N JE LAHKO NA CD-ju, MINIDISC, DAT TAPE, 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ČUNALNIKU V WAV ALI MP3 FORM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VOČNE PERSPEK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TEREO ZV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URROUND ZV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OLBY DIGITAL 5.1. IN 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03280" y="1557360"/>
            <a:ext cx="6697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WA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AVDIO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PODATKOVNA DATOTEKA ZA RAČUNALNIŠ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UPORA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MICROSOFT IN IBM STANDAR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RAZLIČICA RIFF BI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OMEJEN NA DATOTEKE MANJŠE OD 2 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AVDIO CD-ji GA NE UPORABLJ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1557360"/>
            <a:ext cx="6481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MP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IGITALNO AVDIO KOD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IZGUBEN STISKALNI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UPORABLJENE ZA DOWNLOAD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VANJE GLASBE NA RAČUNALNIK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JE KODIRNIK IN NE DATOTEČNI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1557360"/>
            <a:ext cx="770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OŠČENKA (CD – COMPACT DI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TIČNI DISK ZA SHRANJEVANJE DIGITALNIH PODATK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NI PLAYBACK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 KOMERCIALNO AVDIO PREDVAJANJE IN SNEM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 PREMER 1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0 MM ZADRŽI 74 MIN AVDIA, 80 MM PA 20 MIN AV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20:10:58Z</dcterms:created>
  <dc:creator>Ziga</dc:creator>
  <dc:description/>
  <dc:language>en-US</dc:language>
  <cp:lastModifiedBy>Ziga</cp:lastModifiedBy>
  <dcterms:modified xsi:type="dcterms:W3CDTF">2005-12-14T23:42:37Z</dcterms:modified>
  <cp:revision>25</cp:revision>
  <dc:subject/>
  <dc:title>Diapozitiv 1</dc:title>
</cp:coreProperties>
</file>