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1AC2D-EDD1-4EA9-9EED-23984229C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D6B50-C69C-4C2D-A2CA-6F451A78A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90DFF-1E84-4A90-9F73-7067007E0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76A1E-3BC8-40F4-926C-A7E921C7A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00E8BD-DC0A-45E4-8E31-7D66702AA8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0DBBF-B6CC-4A8F-ABCE-E16D4AB9E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0DF17-373B-4776-9EB7-5522D43872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E406E-39F5-45EF-B535-54A9FF886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7DA8B-43BA-4D1C-B7A4-70BF4E0F4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3000"/>
            <a:ext cx="8383680" cy="6646320"/>
          </a:xfrm>
          <a:prstGeom prst="rect">
            <a:avLst/>
          </a:prstGeom>
          <a:noFill/>
          <a:ln w="0">
            <a:noFill/>
          </a:ln>
        </p:spPr>
        <p:txBody>
          <a:bodyPr lIns="0" rIns="0" tIns="0" bIns="0" anchor="ctr">
            <a:noAutofit/>
          </a:bodyPr>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C1A95-8D2D-4DEF-8C8D-DFD1320B6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C83FD-DDF9-4137-AF68-4EEEDA8FF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83FBA-CC7E-4451-B279-50930127E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5D3B3-E2D3-48C1-BAD7-B50D93E39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B9019-959A-40BF-BD93-215A6DE33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EDE86-DE3F-463F-8623-C0474F4EA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24905A-7CBA-4DDC-8767-EB8C80EDF2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4"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686887-F54E-4CDA-B8A3-A0ACD3AE98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D0F8F-D9A8-4511-9774-F8F0ABF1B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53C49-22E2-4FF3-B1FF-95F1E5B84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E676E-1A9C-49E1-8309-C4B4861FB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3000"/>
            <a:ext cx="8383680" cy="6646320"/>
          </a:xfrm>
          <a:prstGeom prst="rect">
            <a:avLst/>
          </a:prstGeom>
          <a:noFill/>
          <a:ln w="0">
            <a:noFill/>
          </a:ln>
        </p:spPr>
        <p:txBody>
          <a:bodyPr lIns="0" rIns="0" tIns="0" bIns="0" anchor="ctr">
            <a:noAutofit/>
          </a:bodyPr>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5E348-DA55-4DC5-8253-E099367BC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E07F9-26C6-4E6E-A2AD-13151F943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92F83-4F46-4BD3-8553-BB2F9C790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5CD53-5B9D-4B0B-8CAB-B32251339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5280"/>
            <a:ext cx="1900440" cy="474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5280"/>
            <a:ext cx="190044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DBC302-6CCF-4102-BDB6-4DBB562E7AB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6040" cy="4189320"/>
          </a:xfrm>
          <a:prstGeom prst="rect">
            <a:avLst/>
          </a:prstGeom>
          <a:noFill/>
          <a:ln w="0">
            <a:noFill/>
          </a:ln>
        </p:spPr>
        <p:txBody>
          <a:bodyPr lIns="90000" rIns="90000" tIns="46800" bIns="46800" anchor="t">
            <a:normAutofit/>
          </a:bodyPr>
          <a:p>
            <a:pPr marL="341280" indent="-34128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c1c2cb">
                <a:alpha val="4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7" name="PlaceHolder 1"/>
          <p:cNvSpPr>
            <a:spLocks noGrp="1"/>
          </p:cNvSpPr>
          <p:nvPr>
            <p:ph type="title"/>
          </p:nvPr>
        </p:nvSpPr>
        <p:spPr>
          <a:xfrm>
            <a:off x="990360" y="1904760"/>
            <a:ext cx="7770600" cy="1734840"/>
          </a:xfrm>
          <a:prstGeom prst="rect">
            <a:avLst/>
          </a:prstGeom>
          <a:noFill/>
          <a:ln w="0">
            <a:noFill/>
          </a:ln>
        </p:spPr>
        <p:txBody>
          <a:bodyPr lIns="90000" rIns="90000" tIns="46800" bIns="46800" anchor="t">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58" name="PlaceHolder 2"/>
          <p:cNvSpPr>
            <a:spLocks noGrp="1"/>
          </p:cNvSpPr>
          <p:nvPr>
            <p:ph type="dt" idx="4"/>
          </p:nvPr>
        </p:nvSpPr>
        <p:spPr>
          <a:xfrm>
            <a:off x="990720" y="6245280"/>
            <a:ext cx="1900080" cy="4744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24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5280"/>
            <a:ext cx="190044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3443B62-96F1-4418-A52E-012DCB5FDD5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2133360"/>
            <a:ext cx="7772400" cy="2376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500" spc="-1" strike="noStrike">
                <a:solidFill>
                  <a:srgbClr val="000000"/>
                </a:solidFill>
                <a:latin typeface="Copperplate Gothic Light"/>
              </a:rPr>
              <a:t>Pomen multimedijev  kot sovpada</a:t>
            </a:r>
            <a:br>
              <a:rPr sz="3500"/>
            </a:br>
            <a:r>
              <a:rPr b="0" lang="en-GB" sz="3500" spc="-1" strike="noStrike">
                <a:solidFill>
                  <a:srgbClr val="000000"/>
                </a:solidFill>
                <a:latin typeface="Copperplate Gothic Light"/>
              </a:rPr>
              <a:t>tehnologije in medijskih izrazov</a:t>
            </a:r>
            <a:endParaRPr b="1" lang="en-US" sz="35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914400" y="1341360"/>
            <a:ext cx="8229600" cy="452592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TISKANI MEDIJ</a:t>
            </a:r>
            <a:endParaRPr b="0" lang="en-US" sz="22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asopis v internet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vi, ki so se pojavili na internetu(Financial Times, New York Times,…)</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lovenski časniki na internet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mrežni časopisi</a:t>
            </a:r>
            <a:endParaRPr b="0" lang="en-US" sz="15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914400" y="907560"/>
            <a:ext cx="8229600" cy="579276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TELEVIZIJSKI MEDIJ</a:t>
            </a:r>
            <a:endParaRPr b="0" lang="en-US" sz="2200" spc="-1" strike="noStrike">
              <a:solidFill>
                <a:srgbClr val="000000"/>
              </a:solidFill>
              <a:latin typeface="Arial"/>
            </a:endParaRPr>
          </a:p>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ske hiše, ki imajo urejene spletne strani(CNN,BBC,..in med slovenskimi RT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kstovni zapis</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avdio in video prispevki</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prema za kakovostno predvajanje avdiovizualnih vsebin</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000"/>
                </a:solidFill>
                <a:latin typeface="Copperplate Gothic Light"/>
              </a:rPr>
              <a:t>   </a:t>
            </a:r>
            <a:r>
              <a:rPr b="1" lang="en-GB" sz="2200" spc="-1" strike="noStrike">
                <a:solidFill>
                  <a:srgbClr val="000000"/>
                </a:solidFill>
                <a:latin typeface="Copperplate Gothic Light"/>
              </a:rPr>
              <a:t>Telefonija oz. oblike telekomunikacije</a:t>
            </a:r>
            <a:endParaRPr b="1" lang="en-US" sz="2200" spc="-1" strike="noStrike">
              <a:solidFill>
                <a:srgbClr val="000000"/>
              </a:solidFill>
              <a:latin typeface="Arial Black"/>
            </a:endParaRPr>
          </a:p>
        </p:txBody>
      </p:sp>
      <p:sp>
        <p:nvSpPr>
          <p:cNvPr id="115" name="PlaceHolder 2"/>
          <p:cNvSpPr>
            <a:spLocks noGrp="1"/>
          </p:cNvSpPr>
          <p:nvPr>
            <p:ph/>
          </p:nvPr>
        </p:nvSpPr>
        <p:spPr>
          <a:xfrm>
            <a:off x="914400" y="1916280"/>
            <a:ext cx="8229600" cy="5068800"/>
          </a:xfrm>
          <a:prstGeom prst="rect">
            <a:avLst/>
          </a:prstGeom>
          <a:noFill/>
          <a:ln w="0">
            <a:noFill/>
          </a:ln>
        </p:spPr>
        <p:txBody>
          <a:bodyPr lIns="90000" rIns="90000" tIns="46800" bIns="46800" anchor="t">
            <a:normAutofit/>
          </a:bodyPr>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Na začetku je bila e-pošta, vseh oblik internetnega komuniciranja.Nato so v 80-ih nastali programi, ki so omogočali digitalni pisni klepet in bili videti kot nekakšna e-pošta v ži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ed prvimi programi za komunikacijo preko interneta je IRC.Nastal je v času, ko je bila večina zasebnih uporabnikov priključena le občasno, zato so se pogosto prijatelji poklicali kdaj in na katerem kanalu se “dobijo”.Še danes je veliko uporabnikov, ki preživijo ure na IRC-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ogrami za internetno komunikacij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CQ,AIM,NetMeeting,MSN Messenger,Windows Messenger,Yahoo!Messenger,Google Talk</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kype,Gizmo,Jabber,Trillian,…</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blike komunikaci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elo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P-telefonij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lektronsko poslovan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konferenc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obraževanje na daljavo…</a:t>
            </a:r>
            <a:endParaRPr b="0" lang="en-US" sz="15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99640" y="1557000"/>
            <a:ext cx="4302360" cy="2614680"/>
          </a:xfrm>
          <a:prstGeom prst="rect">
            <a:avLst/>
          </a:prstGeom>
          <a:noFill/>
          <a:ln w="0">
            <a:noFill/>
          </a:ln>
        </p:spPr>
        <p:txBody>
          <a:bodyPr lIns="90000" rIns="90000" tIns="46800" bIns="46800" anchor="t">
            <a:normAutofit/>
          </a:bodyPr>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Oblike komunikacije</a:t>
            </a:r>
            <a:r>
              <a:rPr b="0" lang="en-GB" sz="1800" spc="-1" strike="noStrike">
                <a:solidFill>
                  <a:srgbClr val="000000"/>
                </a:solidFill>
                <a:latin typeface="Copperplate Gothic Light"/>
              </a:rPr>
              <a:t>:</a:t>
            </a:r>
            <a:endParaRPr b="0" lang="en-US" sz="18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elo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P-telefonij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lektronsko poslovan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konferenc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obraževanje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914400" y="1413000"/>
            <a:ext cx="8229600" cy="572112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INTERAKTIVNI KIOSKI</a:t>
            </a:r>
            <a:endParaRPr b="0" lang="en-US" sz="22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nteraktivni kioski so namenjeni javni uporabi. Dotik na občutljivi zaslon omogoča hiter dostop do najrazličnejših informacij ter opravljanje storitev, kot s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pisovanje raznih podatko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ostop do internet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ošiljanje e-pošt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foniranje prek protokola IP</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 in avdiokonferenčne povezav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trgovin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bančništv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kšne so prednosti kiosk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500" spc="-1" strike="noStrike">
                <a:solidFill>
                  <a:srgbClr val="000000"/>
                </a:solidFill>
                <a:latin typeface="Baskerville Old Face"/>
              </a:rPr>
              <a:t>  </a:t>
            </a:r>
            <a:r>
              <a:rPr b="0" lang="en-GB" sz="4500" spc="-1" strike="noStrike">
                <a:solidFill>
                  <a:srgbClr val="000000"/>
                </a:solidFill>
                <a:latin typeface="Copperplate Gothic Light"/>
              </a:rPr>
              <a:t>Kazalo</a:t>
            </a:r>
            <a:endParaRPr b="1" lang="en-US" sz="4500" spc="-1" strike="noStrike">
              <a:solidFill>
                <a:srgbClr val="000000"/>
              </a:solidFill>
              <a:latin typeface="Arial Black"/>
            </a:endParaRPr>
          </a:p>
        </p:txBody>
      </p:sp>
      <p:sp>
        <p:nvSpPr>
          <p:cNvPr id="100" name="PlaceHolder 2"/>
          <p:cNvSpPr>
            <a:spLocks noGrp="1"/>
          </p:cNvSpPr>
          <p:nvPr>
            <p:ph/>
          </p:nvPr>
        </p:nvSpPr>
        <p:spPr>
          <a:xfrm>
            <a:off x="914400" y="1773360"/>
            <a:ext cx="8229600" cy="655560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prihodnost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aktivna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kabelska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NET</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net, kot medij</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Posledica pojava interneta:tv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radio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tisk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telefonija oz. telekomunikaci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aktivni info-kioski</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500" spc="-1" strike="noStrike">
                <a:solidFill>
                  <a:srgbClr val="000000"/>
                </a:solidFill>
                <a:latin typeface="Baskerville Old Face"/>
              </a:rPr>
              <a:t>  </a:t>
            </a:r>
            <a:r>
              <a:rPr b="0" lang="en-GB" sz="4500" spc="-1" strike="noStrike">
                <a:solidFill>
                  <a:srgbClr val="000000"/>
                </a:solidFill>
                <a:latin typeface="Copperplate Gothic Light"/>
              </a:rPr>
              <a:t>Televizija</a:t>
            </a:r>
            <a:r>
              <a:rPr b="1" lang="en-GB" sz="4400" spc="-1" strike="noStrike">
                <a:solidFill>
                  <a:srgbClr val="000000"/>
                </a:solidFill>
                <a:latin typeface="Arial Black"/>
              </a:rPr>
              <a:t> </a:t>
            </a:r>
            <a:endParaRPr b="1" lang="en-US" sz="4400" spc="-1" strike="noStrike">
              <a:solidFill>
                <a:srgbClr val="000000"/>
              </a:solidFill>
              <a:latin typeface="Arial Black"/>
            </a:endParaRPr>
          </a:p>
        </p:txBody>
      </p:sp>
      <p:sp>
        <p:nvSpPr>
          <p:cNvPr id="102" name="PlaceHolder 2"/>
          <p:cNvSpPr>
            <a:spLocks noGrp="1"/>
          </p:cNvSpPr>
          <p:nvPr>
            <p:ph/>
          </p:nvPr>
        </p:nvSpPr>
        <p:spPr>
          <a:xfrm>
            <a:off x="781200" y="1844280"/>
            <a:ext cx="8362800" cy="453060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prihodnost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interaktivna 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kab.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99640" y="333360"/>
            <a:ext cx="8388360" cy="633888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NTERAKTIVNA TELEVIZ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a je že desetletja uveljavljen elektronski medij, ki se stalno razvija, kljub temu pa še danes gledalcu omogoča pasivno spremljanje TV programov.S stališča gledalca so pomembnejše spremembe, ki so se uveljavljavile tekom razvoja televizij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rnobela televizija oz. začetek televizije kot novega avdiovizuelnega med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barvna televizija, ki bistveno izboljša kvaliteto slikovnega dela televizijskih</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sebin</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tekst kot dodatna informacija vključena v osnovno televizijsko vsebin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uveljavitev videorekorderje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odatni mejniki v razvoju televizije, ki pa so le posredno vplivali na gledalc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ožnost satelitskega in kabelskega sprejema TV signal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igitalna televiz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55640" y="549360"/>
            <a:ext cx="8229600" cy="586584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a, pa naj bo digitalna, analogna, satelitska ali kabelska, je še vedno naprava, ki omogoča gledalcu le sprejemanje informacij po vnaprej znanem sporedu(realnem čas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Gledalec nima možnosti posredovanja povratnih informacij. Interaktivna televizija je povsem drug koncept televizije in omogoča uporabniku, da si sam izber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daj bo gledal</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j bo gledal</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ko si želi ogledati</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 prihodom interaktivne televizije je gledalec postal aktiven uporabnik.</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26560" y="1484280"/>
            <a:ext cx="8007480" cy="419256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Ločimo štiri kategorije interaktivne televizi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Video na zahtevo</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Napredna 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Virtualni program</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Sodelovan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  </a:t>
            </a:r>
            <a:r>
              <a:rPr b="0" lang="en-GB" sz="4400" spc="-1" strike="noStrike">
                <a:solidFill>
                  <a:srgbClr val="000000"/>
                </a:solidFill>
                <a:latin typeface="Copperplate Gothic Light"/>
              </a:rPr>
              <a:t>Kabelska</a:t>
            </a:r>
            <a:r>
              <a:rPr b="1" lang="en-GB" sz="4400" spc="-1" strike="noStrike">
                <a:solidFill>
                  <a:srgbClr val="000000"/>
                </a:solidFill>
                <a:latin typeface="Copperplate Gothic Light"/>
              </a:rPr>
              <a:t> </a:t>
            </a:r>
            <a:r>
              <a:rPr b="0" lang="en-GB" sz="4400" spc="-1" strike="noStrike">
                <a:solidFill>
                  <a:srgbClr val="000000"/>
                </a:solidFill>
                <a:latin typeface="Copperplate Gothic Light"/>
              </a:rPr>
              <a:t>Tv</a:t>
            </a:r>
            <a:endParaRPr b="1" lang="en-US" sz="4400" spc="-1" strike="noStrike">
              <a:solidFill>
                <a:srgbClr val="000000"/>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belska TV..CA-TV(Community Antenna Television) se je rodila v ZDA(Penslivanija), v poznih 40-letih.V tem čau je obstajalo le nekaj televizijskih postaj, te pa so oddajale predvsem v večjih mestih.V začetkih 50-letih je bila televizija relativno nov pojav.Kljub temu je število sprejemnikov raslo in s številom odjemalcev naraščalo tudi število TV anten na strehah prodajaln</a:t>
            </a:r>
            <a:r>
              <a:rPr b="0" lang="en-GB" sz="1500" spc="-1" strike="noStrike">
                <a:solidFill>
                  <a:srgbClr val="000000"/>
                </a:solidFill>
                <a:latin typeface="Copperplate Gothic Light"/>
              </a:rPr>
              <a:t>.</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  </a:t>
            </a:r>
            <a:r>
              <a:rPr b="1" lang="en-GB" sz="4400" spc="-1" strike="noStrike">
                <a:solidFill>
                  <a:srgbClr val="000000"/>
                </a:solidFill>
                <a:latin typeface="Copperplate Gothic Light"/>
              </a:rPr>
              <a:t>Internet</a:t>
            </a:r>
            <a:endParaRPr b="1" lang="en-US" sz="4400" spc="-1" strike="noStrike">
              <a:solidFill>
                <a:srgbClr val="000000"/>
              </a:solidFill>
              <a:latin typeface="Arial Black"/>
            </a:endParaRPr>
          </a:p>
        </p:txBody>
      </p:sp>
      <p:sp>
        <p:nvSpPr>
          <p:cNvPr id="109" name="PlaceHolder 2"/>
          <p:cNvSpPr>
            <a:spLocks noGrp="1"/>
          </p:cNvSpPr>
          <p:nvPr>
            <p:ph/>
          </p:nvPr>
        </p:nvSpPr>
        <p:spPr>
          <a:xfrm>
            <a:off x="914400" y="1844280"/>
            <a:ext cx="8229600" cy="4537080"/>
          </a:xfrm>
          <a:prstGeom prst="rect">
            <a:avLst/>
          </a:prstGeom>
          <a:noFill/>
          <a:ln w="0">
            <a:noFill/>
          </a:ln>
        </p:spPr>
        <p:txBody>
          <a:bodyPr lIns="90000" rIns="90000" tIns="46800" bIns="46800" anchor="t">
            <a:normAutofit/>
          </a:bodyPr>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e je radio potreboval 38 let, da se je razširil med 50 milijonov poslušalcev in televizija 13 let(kabelska 10 let), je razvoj interneta potreboval le 6 let za 50 milijonov uporabnikov.</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ediji doživlajjo veliko metamorfozo, ki je bila napovedana že pred leti. Tiskani mediji so namreč v internetovski izdajah bogatijo z zvokom in gibljivo sliko, radijski in televizijski medij pa širita področje “oddajanja”.Predvsem pa vsi mediji, ki izkoriščajo omrežne prednosti ,odkrivajo najpomebnejšo prednost interneta oz. svetovnega spleta- interaktivno komunikacijo s svojimi “bralci,gledalci in poslušalci”.</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osledica pojava internet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o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isk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V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fonija oz. telekomunikaci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Mediji na internetu</a:t>
            </a:r>
            <a:endParaRPr b="1" lang="en-US" sz="4400" spc="-1" strike="noStrike">
              <a:solidFill>
                <a:srgbClr val="000000"/>
              </a:solidFill>
              <a:latin typeface="Arial Black"/>
            </a:endParaRPr>
          </a:p>
        </p:txBody>
      </p:sp>
      <p:sp>
        <p:nvSpPr>
          <p:cNvPr id="111" name="PlaceHolder 2"/>
          <p:cNvSpPr>
            <a:spLocks noGrp="1"/>
          </p:cNvSpPr>
          <p:nvPr>
            <p:ph/>
          </p:nvPr>
        </p:nvSpPr>
        <p:spPr>
          <a:xfrm>
            <a:off x="826560" y="1915920"/>
            <a:ext cx="8007480" cy="419076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RADIJSKI MEDIJ</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jski sprejemniki so že dolgo stalni del opreme različnih delovnih mest</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o v internetu lahko poleg zvoka ponudi poslušalcu na zaslonu informacijo o naslovu in izvajalcu skladb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odaja plošč prek internet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ednost interneta izkoriščajo manj znane radijske postaj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mrežne radijske postaje(Imagine Radio,Rain Radi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vanka</dc:creator>
  <dc:description/>
  <dc:language>en-US</dc:language>
  <cp:lastModifiedBy>Ivanka</cp:lastModifiedBy>
  <cp:revision>0</cp:revision>
  <dc:subject/>
  <dc:title>Pomen multimedijev kot sovpada tehnologije in medijskih izrazov</dc:title>
</cp:coreProperties>
</file>