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C974C-BCBE-4968-B749-5FE1AA0B6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D656C-39CB-4BD3-A1BC-668F2A1F5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48192-041C-4743-9438-30CFAB09C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FAD03-2B95-4064-8FFC-09E3ABF72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87817-4759-47D7-B68B-EFC20A7CF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833A1-6751-4F89-BDBF-9755536F8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DCB0E-19E6-46CF-8775-1B9AEA3D2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A2A35-27E4-4CAA-ADBA-A496DF171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3993C-DE7E-4894-9348-3AED34B8A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E78FF-F174-4CC8-ACB7-EB814E58E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2C42D-3494-408A-822B-A96DDF8DF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19CBF-0C24-4000-A607-16DDD9901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953DC-9EA3-43F4-975C-08AA01A0E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E2C25-2605-4DAD-805A-F00F1355F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603B2-567B-4E70-99BD-B0942C4DE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EB693-A8C2-4862-9A8A-9F296728D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3D8A3-C595-4CB6-810C-D32774FD0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F203B-AE02-4EB7-87C5-B4864B814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C161D-A47D-4F20-8955-64D6A4199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9CE87-64F6-4FA1-B18D-E7DCC26C3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4A9B5-53D7-4CEC-8F0A-0893145D7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EC449-7143-40C8-8B8B-D859DEC8C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A73B8-814C-415B-AC26-D7E9DF92A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C0EC7-5A98-4B45-BBD0-C2F1D8B5F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F42C1-9D77-40C1-ABE5-D7525684E1A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31780-1855-4312-96E5-3B72789103C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media-forum.si/slo/pokrajina" TargetMode="External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cc0000"/>
                </a:solidFill>
                <a:latin typeface="Arial Black"/>
              </a:rPr>
              <a:t>Časopis kot medij</a:t>
            </a:r>
            <a:r>
              <a:rPr b="0" lang="sl-SI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Časopis,televizija in radio, so najpogostejši in najučinkovitejši prenašalec informaci ali medij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cc0000"/>
                </a:solidFill>
                <a:latin typeface="Arial Black"/>
              </a:rPr>
              <a:t>Tisk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V tisku se tiska z plat formami in poznamo več vrst tika:-visoki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1995480" indent="0"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-globok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1995480" indent="0"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-propustn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1995480" indent="0"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-plosk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cc0000"/>
                </a:solidFill>
                <a:latin typeface="Arial Black"/>
              </a:rPr>
              <a:t>Dodelav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Tu se obrezejo in znesejo pole v časopis in nato, se jih šiva ali veže,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Zato imamo:-rezalne stroj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-deklšerje ali lepenčne škarj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-zlagalni stroj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-izsekovalni stroj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cc0000"/>
                </a:solidFill>
                <a:latin typeface="Arial Black"/>
              </a:rPr>
              <a:t>Časopis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Časopisi po pokrajina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333399"/>
                </a:solidFill>
                <a:latin typeface="Tahoma"/>
              </a:rPr>
              <a:t>Pripravi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Miha Hrženja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cc0000"/>
                </a:solidFill>
                <a:latin typeface="Arial Black"/>
              </a:rPr>
              <a:t>Kako nastane časopis in članek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761760" y="1599840"/>
            <a:ext cx="79246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Uredništvo:  -lekt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-urednic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-grafična obdelav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-priprav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Tiskarna:     -reprografij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-tis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-dodelav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cc0000"/>
                </a:solidFill>
                <a:latin typeface="Arial Black"/>
              </a:rPr>
              <a:t>Uredništv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3333cc"/>
                </a:solidFill>
                <a:latin typeface="Times New Roman"/>
              </a:rPr>
              <a:t>LEKT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3333cc"/>
                </a:solidFill>
                <a:latin typeface="Times New Roman"/>
              </a:rPr>
              <a:t>UREDNIC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3333cc"/>
                </a:solidFill>
                <a:latin typeface="Times New Roman"/>
              </a:rPr>
              <a:t>GRAFIČNI OBDELOV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3333cc"/>
                </a:solidFill>
                <a:latin typeface="Times New Roman"/>
              </a:rPr>
              <a:t>PRIPRAV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cc0000"/>
                </a:solidFill>
                <a:latin typeface="Arial Black"/>
              </a:rPr>
              <a:t>Lekto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Pregleda (popravlja) rokopise,članke,..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glede na jezikovno pravilnost,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cc0000"/>
                </a:solidFill>
                <a:latin typeface="Arial Black"/>
              </a:rPr>
              <a:t>Urednic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Uredniku ali redaktor, je strokovnjak ki pripravi tematsko zaokrožen del časopisa,revije,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Glavni urednik je človek, ki skrbi za celoten program, javno in pravno,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cc0000"/>
                </a:solidFill>
                <a:latin typeface="Arial Black"/>
              </a:rPr>
              <a:t>Grafično obdelovanj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Tu se obdelujejo slike. Najpogostejši programi so PhotoShop, CorelDraw,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cc0000"/>
                </a:solidFill>
                <a:latin typeface="Arial Black"/>
              </a:rPr>
              <a:t>Priprav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Tu se pripravi ves material,to so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-slik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-tek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cc0000"/>
                </a:solidFill>
                <a:latin typeface="Arial Black"/>
              </a:rPr>
              <a:t>Tiskarn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3333cc"/>
                </a:solidFill>
                <a:latin typeface="Times New Roman"/>
              </a:rPr>
              <a:t>REPROGRAFIJ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3333cc"/>
                </a:solidFill>
                <a:latin typeface="Times New Roman"/>
              </a:rPr>
              <a:t>TIS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3333cc"/>
                </a:solidFill>
                <a:latin typeface="Times New Roman"/>
              </a:rPr>
              <a:t>DODELAV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cc0000"/>
                </a:solidFill>
                <a:latin typeface="Arial Black"/>
              </a:rPr>
              <a:t>Reprografij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V reprografiji se postavi položaje slik in teksta, vecino tega se naredi v CorelDraw program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7T13:15:29Z</dcterms:created>
  <dc:creator>Miha Hamster Hrženjak</dc:creator>
  <dc:description/>
  <dc:language>en-US</dc:language>
  <cp:lastModifiedBy>Miha Hamster Hrženjak</cp:lastModifiedBy>
  <dcterms:modified xsi:type="dcterms:W3CDTF">2005-12-08T15:51:05Z</dcterms:modified>
  <cp:revision>6</cp:revision>
  <dc:subject/>
  <dc:title>Časopis kot medij </dc:title>
</cp:coreProperties>
</file>