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3A171-45D2-438F-A4D4-5EDE868B6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A0BD7-D6F4-431E-8F9A-3DA989072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2A572-96EF-48A7-ACD5-0EF58D6A1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51DA9-6DA5-4BF0-BE92-52E429C1F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B1413-B80C-4050-8649-E1DDDA8D0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16254-974C-47F8-A9D6-2926F0018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930F4-2393-4C3D-BE14-3FBDD4912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9C387-995D-492A-8746-19E5D897D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A00E0-CF38-45F1-BEEA-EAF4C715C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B88FF-5B79-4F61-A1D0-3D4100852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7F32D-6A0F-4EB7-AA9F-22EFB51DA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C8E18-EF70-4408-9149-46E3CEEED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B545-9473-4436-AD2F-2D8B8303F1D5}"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SNOVE VIDEOTEHMIKE IN STANDARDOV</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OTOAPAR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grafij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gr: Phos = svetloba, graphis =čopi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ANALOGNI  in DIGITAL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Analogni:</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ptični del-leč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emični-fi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hanič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 vse te skalibriramo in skombiniramo, šele tekrat nastane slik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ptični del- leče</a:t>
            </a:r>
            <a:endParaRPr b="0" lang="en-US" sz="4400" spc="-1" strike="noStrike">
              <a:solidFill>
                <a:srgbClr val="000000"/>
              </a:solidFill>
              <a:latin typeface="Arial"/>
            </a:endParaRPr>
          </a:p>
        </p:txBody>
      </p:sp>
      <p:sp>
        <p:nvSpPr>
          <p:cNvPr id="65"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če so urivljeno steklo ali plastika, naloga je da zbira in posreduje svetlobo na določeno mesto, tako da dobimo sliko od zun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ki potuje skozi različne medije spreminja hitrost- zrak hitro, steklo počasneje. </a:t>
            </a:r>
            <a:endParaRPr b="0" lang="en-US" sz="3200" spc="-1" strike="noStrike">
              <a:solidFill>
                <a:srgbClr val="000000"/>
              </a:solidFill>
              <a:latin typeface="Arial"/>
            </a:endParaRPr>
          </a:p>
        </p:txBody>
      </p:sp>
      <p:pic>
        <p:nvPicPr>
          <p:cNvPr id="67" name="" descr=""/>
          <p:cNvPicPr/>
          <p:nvPr/>
        </p:nvPicPr>
        <p:blipFill>
          <a:blip r:embed="rId1"/>
          <a:stretch/>
        </p:blipFill>
        <p:spPr>
          <a:xfrm>
            <a:off x="3203640" y="3068640"/>
            <a:ext cx="2692440" cy="33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astane tako da svetloba potuje skozi konveksno leč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rave te sike je odvisna od tega kako ta svetloba potuje skozi leče- kot zgradba leč</a:t>
            </a:r>
            <a:endParaRPr b="0" lang="en-US" sz="3200" spc="-1" strike="noStrike">
              <a:solidFill>
                <a:srgbClr val="000000"/>
              </a:solidFill>
              <a:latin typeface="Arial"/>
            </a:endParaRPr>
          </a:p>
        </p:txBody>
      </p:sp>
      <p:pic>
        <p:nvPicPr>
          <p:cNvPr id="70" name="" descr=""/>
          <p:cNvPicPr/>
          <p:nvPr/>
        </p:nvPicPr>
        <p:blipFill>
          <a:blip r:embed="rId1"/>
          <a:stretch/>
        </p:blipFill>
        <p:spPr>
          <a:xfrm>
            <a:off x="1979640" y="3657600"/>
            <a:ext cx="5148360" cy="32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ZOOM, FOKU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4x zoom- f (focal length- razdalja od leče do gorišča) je dolžine od 100 do 400mm </a:t>
            </a:r>
            <a:endParaRPr b="0" lang="en-US" sz="3200" spc="-1" strike="noStrike">
              <a:solidFill>
                <a:srgbClr val="000000"/>
              </a:solidFill>
              <a:latin typeface="Arial"/>
            </a:endParaRPr>
          </a:p>
        </p:txBody>
      </p:sp>
      <p:pic>
        <p:nvPicPr>
          <p:cNvPr id="73" name="" descr=""/>
          <p:cNvPicPr/>
          <p:nvPr/>
        </p:nvPicPr>
        <p:blipFill>
          <a:blip r:embed="rId1"/>
          <a:stretch/>
        </p:blipFill>
        <p:spPr>
          <a:xfrm>
            <a:off x="2124000" y="1341360"/>
            <a:ext cx="4465800" cy="3003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FOTOAPAR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 elektronski senzor ki posname sliko kot binarni zapis, to sliko lahko damo na računalnik in jo obdeluje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domešča analogni fotoaparat, celo snema video in zv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javlja se že v gsmji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2 vrsti senzorjev</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CD charge coupled de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MOS [see-moss] complementary metal-oxide-semicondu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valiteta slik je odvisna od mnogo stvari</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leč: resolucija, popačenje, disperzija (razl valovne dolžine se različno lomi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edij za zajemanje slike: cmos, ccd, negativ (fil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Format zajemanja- pixli, digitalni tip formata (raw, tiff, jpeg,...), format filma (1.35 film, 5x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ocesiranje- digitalno in/ali kemično procesiranje negativo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oblemi ki nastajajo pri digitalnem fotografiranju:</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ferenčni (moire-ovi) vzorci , textil, geometrične figure, tv ekra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iglight burn out (kontrasti- temno svetlo)</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Zakaj smo začeli risati, slikati, snemati,...?</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Komunikacija, Informacija- </a:t>
            </a:r>
            <a:r>
              <a:rPr b="0" lang="sl-SI" sz="3200" spc="-1" strike="noStrike">
                <a:solidFill>
                  <a:srgbClr val="000000"/>
                </a:solidFill>
                <a:latin typeface="Arial"/>
              </a:rPr>
              <a:t>opozorilo, sporočilo, spomin, oznak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Umetnost -</a:t>
            </a:r>
            <a:r>
              <a:rPr b="0" lang="sl-SI" sz="3200" spc="-1" strike="noStrike">
                <a:solidFill>
                  <a:srgbClr val="000000"/>
                </a:solidFill>
                <a:latin typeface="Arial"/>
              </a:rPr>
              <a:t>Izražanje občutkov in idej, posnemanje </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Znanost</a:t>
            </a:r>
            <a:r>
              <a:rPr b="0" lang="sl-SI" sz="3200" spc="-1" strike="noStrike">
                <a:solidFill>
                  <a:srgbClr val="000000"/>
                </a:solidFill>
                <a:latin typeface="Arial"/>
              </a:rPr>
              <a:t> -raziskovanje proučevanj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Religija</a:t>
            </a:r>
            <a:r>
              <a:rPr b="0" lang="sl-SI" sz="3200" spc="-1" strike="noStrike">
                <a:solidFill>
                  <a:srgbClr val="000000"/>
                </a:solidFill>
                <a:latin typeface="Arial"/>
              </a:rPr>
              <a:t>- bogovi, nerazložljivi poja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aparat shranjuje podatke na memory card ali fil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uje/prenaša podatke na računalnik z usb, firewire, memory card sl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mer 1GB memory card- 1 ura videa v mp4 forma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novi: 30fps in 640x480 pixlov (kot t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Formati datotek in formati za shranjevanje podatkov: </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xif je seznam formatov ki se uporabljajo pri digitalnih fotoaparati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rmati:TIFF- najvišja kakovost, JPE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ranjevanje: SD, CF-I, CF-II (compact flash), Memory stickm Multi media card (MMC), Smart media, XD, US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Pictbridge standard-</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ava neposredno na tiskalnik. Nekatere lahko povežemo z npr tvj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o digitalno:</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a:t>
            </a: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Takojšnji vpogled, bris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Cena (1000000000 slik, shranjev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nos brez izgu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skeniranja za na računalni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int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elik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atki o slikah (datum, kraj, velikost, resolucij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eposreden prilkop na tv za prezentaci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Slabosti:</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ražji apar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Baterije, zamenjava le teh- elektrik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posebnih možnosti kot IR fotografi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resolucija (35mm-19Mp, 120mm-69Mp, large format-1135M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a download potrebuješ računalni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če se hard disk pokvari ali C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anjši vidni kot- (fish eye in potem defis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se močno upirajo digit fotografij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prašanje avtentičnosti slik, kvaliteta, vendar večina že uporablja digit.- fleksibilnost, stroški na dolgi rok, editiranje (color balance, levels, efek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dino kjer se še močno uporablja analogna fotografija je npr v krajih brez elektrike- baterije, polnje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astronomiji se je digit. foto. uporabljala že v 80h letih, zaradi prednosti kot npr- takojšnji prenos na računalnik in obdelava podatk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ta 2002 se v ameriki pojavi fotoaparat z 2Mp. Cena je pod 100 USD, fotoaparat z 1Mp pa že za manj kot 60 USD. Tudi cena tiskanja slik se izenači z razvijanjem negativov.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2003 Ritz dakota digital z 1,2 Mp in resolucijo 1280x960 stane 11 USD. Logična posledica je prevlada digit. Fotoaparatov nad analogn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Usoda filmov:</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nilne plošče- še vedno jih bodo uporabljali entuzias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starejša slika je stara 32000 l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jama Chauvet, franci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 Lat: vidim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e tehnologija zajemanja-snemanja, procesiranja, prenašanja in obdelovanja gibljive slike, z uporabljanjem celuloidnega filma, električnega signala ali digitalnega med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moving picture</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s kamero ujamemo zaporedje fram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narišemo frame, vsakega posebej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usion freequenc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dovolj velika hitrost menjavanja framo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ja videnja filma je 40 fps- tudi odvisno od okolja in svetl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luzija premikan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Za video uporabljamo BITMAP slik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rimer koliko zavzame video datotek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Ntsc 640x480:  Če imamo 24 bitno barvo ima vsak frame 640x480x3=900k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sekunda ntsc videa ima 30 framov.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s zavzame 26MB,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minuta pa kar 1.6G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AL:768x576 – 25fps=31MB/s =&gt; 1,85GB/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ilm so nič drugega kot slike, in to pomeni da so video datoteke zelo ve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ato obstaja kompresija (kodek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ODEKI </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dec (compressor, decompressor) je program ki spreminja analogni ali digitalni sig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jo se pri videokonferencah in streaming vid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kodek spremeni analogni signal v digitalni in obratno za prik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zgubni in brez izgubni kode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BREZ IZGUBNI</a:t>
            </a: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IP, RAR, PNG, »G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toteka je zaporedje bitov določene dolž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Obstajajo 3 kompresijski algoritmi:</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e text, sliko in zvo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vočnih podatkov textovni kompresor ne stisne dovolj dobro ali sploh 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datoteka že skrčena, potem se je verjetno ne da še bolj skrč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Videokompresorji:</a:t>
            </a:r>
            <a:br>
              <a:rPr sz="4000"/>
            </a:b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imation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uffyu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rep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eervid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su lossless video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IZGUBNI</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lika: jpeg, djvu,....</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ideo/animacij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1 (video cd format- kvaliteta vc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3 –digitalni video in audi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4- web (streaming media), CD distribucija, video telefon, broadcast TV</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1</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3-videok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SVETLOBA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je EMV (tako kot radijski signal, ir, uv, rentgenski žarki, mikrovalov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nce seva, meče fotone. Foton se zaleti v elektron  ta poskoči na višji energijski nivo in takoj pade nazaj. Pri vračanju (ki je odvisno od energije dobljene od fotona) odda foton (delec svetlobe) z določeno energijo.določeno valovno dolžino, ki jo oko zazna kot bar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rsta kompresije je ponavadi prilagojena predvajanju v aparaturi s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podatke prenašamo na cd, dvd, dv, preko interneta,...., zato pripravimo material s software kodeki. Tipično se neka datoteka kompresira dvakrat. Npr iz kamere na računalnik in nato na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i video kompresorji temeljijo na digitaliziranem videu, sestavljenem iz zaporedja bitmapov (fram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ompresira se lahko:</a:t>
            </a:r>
            <a:br>
              <a:rPr sz="4000"/>
            </a:b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ak frame posebej (spati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lika med dvema framoma (tempor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hko tudi  oba skup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ompresirano je ponavadi zelo velik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poteka: video kompresija?</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vsak 6 frame se imenuje key frame. Ta ostane enak ali pa je posebej stisnjen. (spatially) ostali frame-i vmes se stisnejo po principu razlik med dvema frame-oma. Npr če je vse pri miru le glava se premika bo sprememba samo glava. PREDVIDEVA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bstajajo simetrični kodeki (čas kompresije = času dekompresije) in asimetrični (ponavadi kompresija traja dl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PE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 je boljši od JPEG tudi pri isti velikosti datotek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PEG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NEPA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L INDE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REN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IDEO STANDARDI</a:t>
            </a:r>
            <a:br>
              <a:rPr sz="4000"/>
            </a:b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ogni, digital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produkciji se srečujemo s signali ki morajo zadoščati nekim standar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mpatibilnost (analogno z digitalnim in obratno) (velikost framov, frame 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 bi razumeli digitalno moramo razumeti analogn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i broadcast standardi </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hnični podatki o tem kako je slika barvne televizije pretvojena v broadcast signal. V bistvu pa se nanaša na frame rate in število vrstic v posameznem frame-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itrost svetlob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300.000km/s v vakuum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Potuje samo po prostoru in ne po čas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V optičnem kablu je svetloba 30% počasnejš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Hitrost zvoka =340m/s =1224km/h =0,34k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najstarejši (US National television System Comite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 amerika, jap, taiwan, deli karibov, del južne amerik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1941 so ustanovili standard za čb tv in sicer 30fps (x2) in 525 (od tega jih je 480 slika) vrstic. L. 1953 so prešli na barvno tv. Pri čb signalu je bil frame rate 60fps ko pa so prišle barve je prišlo do interference z zvokom, zato s o pomnožili 60 z 1000/1001 in dobili 59,94 fps. (29,97fps)60H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640x4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AL (phase alternating 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ina zah. Evrope, australia, nova zelandija, kitajska, del južne amer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1967 -25fps in 625vrstic 50Hz 768x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CAM(sequential couleur avec memoi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rancija, bivša sovjetska zveza, vzhodna evropa, afrika (evr.koloni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625 vrst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 pal in secam je od 625 slike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Interlaced, progressive scanning</a:t>
            </a:r>
            <a:br>
              <a:rPr sz="4000"/>
            </a:b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prej se projicirajo lihe črte, 0,017 sekunde za tem pa se projicira polje sodih vrstic. En tak cikel nariše en fr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e utripa če je nad 40f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gressive- izriše se celotna slik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 progressive scanninga:</a:t>
            </a:r>
            <a:br>
              <a:rPr sz="4000"/>
            </a:b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ja navpična resolucija (1920x1080 interlaced je slabši od 1280x720 progres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i utripanja, enostavnejša video procesijska opr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žja kompres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KAMERA</a:t>
            </a:r>
            <a:br>
              <a:rPr sz="4000"/>
            </a:b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a, analog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Analogna:</a:t>
            </a:r>
            <a:br>
              <a:rPr sz="4000"/>
            </a:b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stavljena iz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amere: ccd leče, motorji za zoom, fokus, zaslonk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cr-pomanjšan video rek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skalo- (mini tv, lc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a sprejema vizualno informacijo in jo interpretira kot elektronski video sig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CR=tv vcr- sprejema električni video signal in ga posname na trak kot magnetne vzor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e se v bistvu razlikujejo samo po tem na kaj snema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tandardni filmi 16 in 35mm snemajo pri 24f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CR</a:t>
            </a:r>
            <a:br>
              <a:rPr sz="4000"/>
            </a:b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56 1.vcr 50.000US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3sonyev za podjetja, medicino izobrazbo, letalstv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4 1 za domačo uporabo (son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5 1. domači vt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5 betama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6 sony-VH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80-court battle (tv hiše-reklame, ni več v živo,...-) (studii snemajo filme na VH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ozna 90 začetek 2000 DV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kvarja se s trakom 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bere signale in jih pretvarja, tako da jih tve lahko be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OČI</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2340000" y="1341360"/>
            <a:ext cx="4703760" cy="4437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Pri zvoku so informacije shranjene linearno na trak, videosignal pa ima 500x več informacij, zato isti princip (radio kaseta) (5-8 cm/s)ne more delovati. </a:t>
            </a: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8893080" cy="3313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6" name="" descr=""/>
          <p:cNvPicPr/>
          <p:nvPr/>
        </p:nvPicPr>
        <p:blipFill>
          <a:blip r:embed="rId1"/>
          <a:stretch/>
        </p:blipFill>
        <p:spPr>
          <a:xfrm>
            <a:off x="2719440" y="2381400"/>
            <a:ext cx="3705120" cy="2962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ntrolni podatki- ali je posneto v sp, lp, ep, kako hitro naj vleče trak, skrbi da je glava poravnana s poševnimi črt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Glava se vrti s 1800 obrati/min ali 30 / s (30r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bi bili podatki zapisani linearno bi potrebovali 80km traku za 2 u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VIDEOSTANDARDI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i signal ali data stream, je »diskretna reprezentacija neprekinjenega analognega sign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ndard ccir601 definira procesiranje signala digitalnega videa. Ali signal iz analognega v digitalne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TEHNIKA DANES</a:t>
            </a:r>
            <a:endParaRPr b="0" lang="en-US" sz="4400" spc="-1" strike="noStrike">
              <a:solidFill>
                <a:srgbClr val="000000"/>
              </a:solidFill>
              <a:latin typeface="Arial"/>
            </a:endParaRPr>
          </a:p>
        </p:txBody>
      </p:sp>
      <p:pic>
        <p:nvPicPr>
          <p:cNvPr id="172" name="" descr=""/>
          <p:cNvPicPr/>
          <p:nvPr/>
        </p:nvPicPr>
        <p:blipFill>
          <a:blip r:embed="rId1"/>
          <a:stretch/>
        </p:blipFill>
        <p:spPr>
          <a:xfrm>
            <a:off x="2629080" y="2852640"/>
            <a:ext cx="3886200" cy="20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4" name="" descr=""/>
          <p:cNvPicPr/>
          <p:nvPr/>
        </p:nvPicPr>
        <p:blipFill>
          <a:blip r:embed="rId1"/>
          <a:stretch/>
        </p:blipFill>
        <p:spPr>
          <a:xfrm>
            <a:off x="3301920" y="2611440"/>
            <a:ext cx="2540160" cy="2502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6" name="" descr=""/>
          <p:cNvPicPr/>
          <p:nvPr/>
        </p:nvPicPr>
        <p:blipFill>
          <a:blip r:embed="rId1"/>
          <a:stretch/>
        </p:blipFill>
        <p:spPr>
          <a:xfrm>
            <a:off x="179280" y="0"/>
            <a:ext cx="4211640" cy="3284640"/>
          </a:xfrm>
          <a:prstGeom prst="rect">
            <a:avLst/>
          </a:prstGeom>
          <a:ln w="0">
            <a:noFill/>
          </a:ln>
        </p:spPr>
      </p:pic>
      <p:pic>
        <p:nvPicPr>
          <p:cNvPr id="177" name="" descr=""/>
          <p:cNvPicPr/>
          <p:nvPr/>
        </p:nvPicPr>
        <p:blipFill>
          <a:blip r:embed="rId2"/>
          <a:stretch/>
        </p:blipFill>
        <p:spPr>
          <a:xfrm>
            <a:off x="6300720" y="3716280"/>
            <a:ext cx="2263680" cy="2781360"/>
          </a:xfrm>
          <a:prstGeom prst="rect">
            <a:avLst/>
          </a:prstGeom>
          <a:ln w="0">
            <a:noFill/>
          </a:ln>
        </p:spPr>
      </p:pic>
      <p:pic>
        <p:nvPicPr>
          <p:cNvPr id="178" name="" descr=""/>
          <p:cNvPicPr/>
          <p:nvPr/>
        </p:nvPicPr>
        <p:blipFill>
          <a:blip r:embed="rId3"/>
          <a:stretch/>
        </p:blipFill>
        <p:spPr>
          <a:xfrm>
            <a:off x="4572000" y="0"/>
            <a:ext cx="4356000" cy="3300480"/>
          </a:xfrm>
          <a:prstGeom prst="rect">
            <a:avLst/>
          </a:prstGeom>
          <a:ln w="0">
            <a:noFill/>
          </a:ln>
        </p:spPr>
      </p:pic>
      <p:pic>
        <p:nvPicPr>
          <p:cNvPr id="179" name="" descr=""/>
          <p:cNvPicPr/>
          <p:nvPr/>
        </p:nvPicPr>
        <p:blipFill>
          <a:blip r:embed="rId4"/>
          <a:stretch/>
        </p:blipFill>
        <p:spPr>
          <a:xfrm>
            <a:off x="3059280" y="3500280"/>
            <a:ext cx="2350800" cy="3357720"/>
          </a:xfrm>
          <a:prstGeom prst="rect">
            <a:avLst/>
          </a:prstGeom>
          <a:ln w="0">
            <a:noFill/>
          </a:ln>
        </p:spPr>
      </p:pic>
      <p:pic>
        <p:nvPicPr>
          <p:cNvPr id="180" name="" descr=""/>
          <p:cNvPicPr/>
          <p:nvPr/>
        </p:nvPicPr>
        <p:blipFill>
          <a:blip r:embed="rId5"/>
          <a:stretch/>
        </p:blipFill>
        <p:spPr>
          <a:xfrm>
            <a:off x="0" y="4005360"/>
            <a:ext cx="2700360" cy="260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šele v možgani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le tisto, kar je že v nas samih, predmet, ki ga opazujemo, pa je nova kombinacija v možganih že prisotnih element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kratka: spomnimo se, da vidimo in s pomočjo spomina dosegamo sedanjo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vidimo sve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 gre toliko za samo barvo ali oddaljenost, kot za </a:t>
            </a:r>
            <a:r>
              <a:rPr b="0" lang="sl-SI" sz="3200" spc="-1" strike="noStrike">
                <a:solidFill>
                  <a:srgbClr val="ff3300"/>
                </a:solidFill>
                <a:latin typeface="Arial"/>
              </a:rPr>
              <a:t>zmožnost razlikovanja</a:t>
            </a:r>
            <a:r>
              <a:rPr b="0" lang="sl-SI" sz="3200" spc="-1" strike="noStrike">
                <a:solidFill>
                  <a:srgbClr val="000000"/>
                </a:solidFill>
                <a:latin typeface="Arial"/>
              </a:rPr>
              <a:t>, ki je bistvo vseh čutil in se v osnovi pri vidu kaže kot sposobnost razlikovanja osvetljenosti, torej kontrasta, kar privede do vtisa oblike in razcepitve sveta v posamezne de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žnja po razlikovanju lahko povzroči optične prevare, ki jih tudi sami zlahka odkrijemo (slika, iluzija- ali res vidimo svet tak kot 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4:16:36Z</dcterms:created>
  <dc:creator>jure</dc:creator>
  <dc:description/>
  <dc:language>en-US</dc:language>
  <cp:lastModifiedBy>jure</cp:lastModifiedBy>
  <dcterms:modified xsi:type="dcterms:W3CDTF">2005-11-24T15:48:01Z</dcterms:modified>
  <cp:revision>2</cp:revision>
  <dc:subject/>
  <dc:title>OSNOVE VIDEOTEHMIKE IN STANDARDOV</dc:title>
</cp:coreProperties>
</file>