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6DD7-4EE6-4F66-8AEC-D53073FA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3E7E-1964-494F-AC39-1E322F71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0C00-92C6-4FEC-8557-ACDB0397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355C-6892-4AB2-81CE-F4D0C07F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91D4-3DBA-492F-8AA1-D19882DB1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1756-77D3-4905-87BA-939BD7B1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D4D0-8AAE-4286-89F6-B387B612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2DA2-60C2-4350-95E3-F84EB590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E060-8826-4463-9739-55E6BE6C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8454-4531-4048-9B93-77B6D3BC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3F57-7E66-4F43-8A7F-6FDAC7F6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F02D-8A7B-4B1B-8AB5-47FC27F9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AC90-A881-4896-B7C4-EF2D0A17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00A6-8D68-4E60-B29F-1B046E6C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BDB2-2785-4A67-B444-92AE9B6D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56BF-8A14-4800-A2F8-FA560970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EF8E-0AF1-4BC0-8905-6BFAE2497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6285-275E-456B-A4CC-A24673B8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BD3C-80E6-4ACB-8285-7EBC9DEA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E0E4-D02D-449C-91CB-3B2F5AF5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A58F-7902-4EBC-BE5F-889AAA17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42E0-CAAA-4A63-B691-50C5A544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3ECB-C487-4B26-92EC-C05D4C27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E00E-20E7-4B19-A12D-13A0A4E8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5F38-ABF4-4CE4-899C-3FAAE86F3E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A6EA-7EC1-456C-955B-007BBEA6B7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edia-forum.si/slo/pokrajina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cc0000"/>
                </a:solidFill>
                <a:latin typeface="Arial Black"/>
              </a:rPr>
              <a:t>Časopis kot medij</a:t>
            </a: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Časopis,televizija in radio, so najpogostejši in najučinkovitejši prenašalec informaci ali med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Tis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V tisku se tiska z plat formami in poznamo več vrst tika:-visok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globok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propust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plosk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Dodel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Tu se obrezejo in znesejo pole v časopis in nato, se jih šiva ali veže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Zato imamo:-rezalne stro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deklšerje ali lepenčne škar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zlagalni stro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izsekovalni stro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Časopi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Časopisi po pokrajina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Priprav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Miha Hrženja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Kako nastane časopis in člane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176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redništvo:  -lek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uredn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grafična obdel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pripr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Tiskarna:     -reprograf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ti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dodel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Uredništ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LEK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UREDN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GRAFIČNI OBDELOV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PRIPR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Lek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Pregleda (popravlja) rokopise,članke,..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glede na jezikovno pravilnost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Uredn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Uredniku ali redaktor, je strokovnjak ki pripravi tematsko zaokrožen del časopisa,revije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Glavni urednik je človek, ki skrbi za celoten program, javno in pravno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Grafično obdelovan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Tu se obdelujejo slike. Najpogostejši programi so PhotoShop, CorelDraw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Pripr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Tu se pripravi ves material,to s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s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te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Tiskar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REPROGRAF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TI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DODEL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Reprograf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V reprografiji se postavi položaje slik in teksta, vecino tega se naredi v CorelDraw program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3:15:29Z</dcterms:created>
  <dc:creator>Miha Hamster Hrženjak</dc:creator>
  <dc:description/>
  <dc:language>en-US</dc:language>
  <cp:lastModifiedBy>Miha Hamster Hrženjak</cp:lastModifiedBy>
  <dcterms:modified xsi:type="dcterms:W3CDTF">2005-12-08T15:51:05Z</dcterms:modified>
  <cp:revision>6</cp:revision>
  <dc:subject/>
  <dc:title>Časopis kot medij </dc:title>
</cp:coreProperties>
</file>