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D9C-E528-40C0-8AC8-1C1B088A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4C73-4528-4D2A-9B27-275F9295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1D3-C97A-4A6F-9D2C-52018678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9F5D-9C1A-4249-83A2-55AE354E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A2D3-7B7B-40C7-98A1-2C20E657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DA2-828B-4678-87E9-F76A79EE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84B-6A82-4B81-94C4-9039A233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894-E162-416C-A15C-292FAE0C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2EFC-19D5-4C61-B2D3-99D82401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412-12C1-4EB5-8506-163329FD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0AB8-60AD-487B-8738-D2551732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CA8-E06B-4EE9-B81D-1F8BE672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28E4-B2F2-4D0F-A996-3484756D2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924280"/>
            <a:ext cx="71326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NI VIDIK PRIPRAVE GLASBENE KOMPOZICI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ANALOGNO PREDVAJAN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157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Žiga No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922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TVARJA SE Z ELEKTRONSKO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SIZER, SAMPLER, RAČUNALNIK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OVANA TUDI RAČUNALNIŠKA GLAS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RAZVOJEM PROGRAMOV LAHKO MANIPULIRA Z ZVO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USTVARJANJE SE UPORABLJAJO POSEBNI PR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268280"/>
            <a:ext cx="640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D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ČETEK OB KONCU 70-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ZAČETKU 90-tih MANJ KVALIT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 KONCU 90-tih SE IZBOLJŠA, ZAR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PEŠENEGA RAZVOJA RAČUNAL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NE BOLJ MELODIČNA IN DO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MEVNA LETNICA (1994) V SLOVEN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A TISTEGA Č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L COX, MARUSHA, LAURENT GAR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OOLIGAN, 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557360"/>
            <a:ext cx="806436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VRSTI ELEKTRONSKE GLAS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HC, SPEEDCORE, HAPPY HC, GAB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TAREJŠI HC IZJEMNO RAZNO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INAMIČNA IN PREPROSTA STRUK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AZNOLIKI ZV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D 180 BPM NAVZ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PEED CORE DOSEGA HITROST 1200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VEJŠI HC, MONOTON, AGRESIVNEJŠI, NEGAT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557360"/>
            <a:ext cx="734544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PPY HC, KI JE NASPROTJE STAREJŠEG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EBUJE VISOKE TONE IN GLAS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ASOVI SPOMINJAJO NA OTROŠKE RIS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OTONOST OSTAJA,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BBER; RAZVOJ IZ HC POD VPLIVOM DARK ME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NOISE; KOMBINACIJA HC IN BREAK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AT NI KONSTANTEN, AMPAK LOML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EGA HITROST 20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700280"/>
            <a:ext cx="727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HITROST OD 120 – 140 B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FUNKY, HARD, VOOD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AZVOJ SCHRANZA (11.september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DARK IN VSEBUJE AGRES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40 – 16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125360"/>
            <a:ext cx="61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ENA STAREJŠIH ZVR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ASTALA POD VPLIVOM DISKO GLAS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ELODIČNA, VSEBUJE DOSTI VOK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80 – 12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HARD, FUNKY, PRO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221000"/>
            <a:ext cx="86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 = STAR STIL, TEMELJI NA RAČUNALNIŠ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TIZIRANIH ZVO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= TEMELJI NA ZVOKIH TOL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Y = POČASNEJŠI, BOGATI ZVOKI IN NESITETIČNI, NENARA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VE = MELODIČEN, USKLAJEVANJE ZVO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234936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K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ESTAVA KOMADA (SEKVENCA, SOUND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OFONSKA PLOŠ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989000"/>
            <a:ext cx="619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NI ZVOČNI SNEMALNI MED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N VRTEČI DISK, S STALNO HITR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RALNA POT, KJER IGLA D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LADUJOČ MEDIJ CELIH 7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33 1/3 RPM LONG – PLAY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45 RPM EXTENDED – PLAYING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PM = REVOLUTION PER MINUTE (ROTACIJA NA MI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ZALNIK PLOŠ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276640"/>
            <a:ext cx="705636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PRIBLIŽNO 110 LET, SNOVAN NA GRAMOF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DOMETI EDISONOV CI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 ELEKTRONSKI SIGNAL ZAMENJA MEHANSK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USTIČNA APLIKACIJA POSTANE BOLJ NATAN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INAMIČNO RAVNOV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844640"/>
            <a:ext cx="79200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DOBI SE Z PRETVORBO ANALOGNEGA SIGNALA ALI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KTRON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RETEN IN KVANTIZ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ČNO PREDSTAVLJA NEZVEZNO, DISKRET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C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6553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73360"/>
            <a:ext cx="835344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ZDELITEV V DVE KATEGOR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NEKATERI SO DISKERTNI IN KVANTI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NEKATERI OPIŠEJO POJAVE, KI SO NEPRES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ORABA SE JE ZELO POVEČ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ČINA HIŠNIH NAPRAV ZASNOVANA Z DIGITALNIM SIGN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STAVLJALJEN JE BIN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VANTIZACIJA MERJENA V BI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916280"/>
            <a:ext cx="6985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ANČNA PREDSTAV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MPLEKSNO PROCES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NOS BREZ NA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VNO NIZK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692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IZACIJA ZV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852640"/>
            <a:ext cx="7705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OSTAVEN PRIMER PROCESA DIGITALIZACIJE IN VZOR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KA V TREH FAZA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VZORČ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VANT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916280"/>
            <a:ext cx="8280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ZVOK, KI JE POSNET IN SHRANJEN V DIGITALNEM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N JE LAHKO NA CD-ju, MINIDISC, DAT TAPE, 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IKU V WAV ALI MP3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OČNE PERSPEK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TEREO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RROUND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OLBY DIGITAL 5.1. IN 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1557360"/>
            <a:ext cx="6697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W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PODATKOVNA DATOTEKA ZA RAČUNALNIŠ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UPOR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MICROSOFT IN IBM STANDA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RAZLIČICA RIFF 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OMEJEN NA DATOTEKE MANJŠE OD 2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CD-ji GA NE UPORABLJ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557360"/>
            <a:ext cx="6481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M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IGITALNO AVDIO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ZGUBEN STISKAL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UPORABLJENE ZA DOWNLOAD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 GLASBE NA RAČUNALNI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KODIRNIK IN NE DATOTEČ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557360"/>
            <a:ext cx="770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ŠČENKA (CD – COMPACT D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ČNI DISK ZA SHRANJEVANJE DIGITALNIH PODAT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NI PLAYBACK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KOMERCIALNO AVDIO PREDVAJANJE IN SNEM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PREMER 1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MM ZADRŽI 74 MIN AVDIA, 80 MM PA 20 MIN AV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0:10:58Z</dcterms:created>
  <dc:creator>Ziga</dc:creator>
  <dc:description/>
  <dc:language>en-US</dc:language>
  <cp:lastModifiedBy>Ziga</cp:lastModifiedBy>
  <dcterms:modified xsi:type="dcterms:W3CDTF">2005-12-14T23:42:37Z</dcterms:modified>
  <cp:revision>25</cp:revision>
  <dc:subject/>
  <dc:title>Diapozitiv 1</dc:title>
</cp:coreProperties>
</file>